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51435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9DFCDA-E1D4-407D-BB18-DA8A680EB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10"/>
          </p:nvPr>
        </p:nvSpPr>
        <p:spPr>
          <a:xfrm>
            <a:off x="3965400" y="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</a:rPr>
              <a:t>16. 7. 19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1"/>
          </p:nvPr>
        </p:nvSpPr>
        <p:spPr>
          <a:xfrm>
            <a:off x="0" y="882000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2"/>
          </p:nvPr>
        </p:nvSpPr>
        <p:spPr>
          <a:xfrm>
            <a:off x="3965400" y="882000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7680" cy="3481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6"/>
          <p:cNvSpPr>
            <a:spLocks noGrp="1"/>
          </p:cNvSpPr>
          <p:nvPr>
            <p:ph type="body"/>
          </p:nvPr>
        </p:nvSpPr>
        <p:spPr>
          <a:xfrm>
            <a:off x="932040" y="4410000"/>
            <a:ext cx="5133600" cy="4176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600" rIns="9360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7680" cy="3481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2040" y="4410000"/>
            <a:ext cx="5133600" cy="4176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600" rIns="9360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dt" idx="13"/>
          </p:nvPr>
        </p:nvSpPr>
        <p:spPr>
          <a:xfrm>
            <a:off x="3965400" y="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16. 7. 19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14"/>
          </p:nvPr>
        </p:nvSpPr>
        <p:spPr>
          <a:xfrm>
            <a:off x="0" y="882000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15"/>
          </p:nvPr>
        </p:nvSpPr>
        <p:spPr>
          <a:xfrm>
            <a:off x="3965400" y="882000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7680" cy="3481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2040" y="4410000"/>
            <a:ext cx="5133600" cy="4176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600" rIns="9360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dt" idx="16"/>
          </p:nvPr>
        </p:nvSpPr>
        <p:spPr>
          <a:xfrm>
            <a:off x="3965400" y="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16. 7. 19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ftr" idx="17"/>
          </p:nvPr>
        </p:nvSpPr>
        <p:spPr>
          <a:xfrm>
            <a:off x="0" y="882000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 type="sldNum" idx="18"/>
          </p:nvPr>
        </p:nvSpPr>
        <p:spPr>
          <a:xfrm>
            <a:off x="3965400" y="882000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7680" cy="3481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32040" y="4410000"/>
            <a:ext cx="5133600" cy="4176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600" rIns="9360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dt" idx="19"/>
          </p:nvPr>
        </p:nvSpPr>
        <p:spPr>
          <a:xfrm>
            <a:off x="3965400" y="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16. 7. 19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20"/>
          </p:nvPr>
        </p:nvSpPr>
        <p:spPr>
          <a:xfrm>
            <a:off x="0" y="882000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 type="sldNum" idx="21"/>
          </p:nvPr>
        </p:nvSpPr>
        <p:spPr>
          <a:xfrm>
            <a:off x="3965400" y="882000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7680" cy="3481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2040" y="4410000"/>
            <a:ext cx="5133600" cy="4176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600" rIns="9360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dt" idx="22"/>
          </p:nvPr>
        </p:nvSpPr>
        <p:spPr>
          <a:xfrm>
            <a:off x="3965400" y="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16. 7. 19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3"/>
          </p:nvPr>
        </p:nvSpPr>
        <p:spPr>
          <a:xfrm>
            <a:off x="0" y="882000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24"/>
          </p:nvPr>
        </p:nvSpPr>
        <p:spPr>
          <a:xfrm>
            <a:off x="3965400" y="882000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7680" cy="3481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32040" y="4410000"/>
            <a:ext cx="5133600" cy="4176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600" rIns="9360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dt" idx="25"/>
          </p:nvPr>
        </p:nvSpPr>
        <p:spPr>
          <a:xfrm>
            <a:off x="3965400" y="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16. 7. 19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ftr" idx="26"/>
          </p:nvPr>
        </p:nvSpPr>
        <p:spPr>
          <a:xfrm>
            <a:off x="0" y="882000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 type="sldNum" idx="27"/>
          </p:nvPr>
        </p:nvSpPr>
        <p:spPr>
          <a:xfrm>
            <a:off x="3965400" y="882000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7680" cy="3481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32040" y="4410000"/>
            <a:ext cx="5133600" cy="4176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600" rIns="9360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dt" idx="28"/>
          </p:nvPr>
        </p:nvSpPr>
        <p:spPr>
          <a:xfrm>
            <a:off x="3965400" y="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16. 7. 19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29"/>
          </p:nvPr>
        </p:nvSpPr>
        <p:spPr>
          <a:xfrm>
            <a:off x="0" y="882000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30"/>
          </p:nvPr>
        </p:nvSpPr>
        <p:spPr>
          <a:xfrm>
            <a:off x="3965400" y="882000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7680" cy="3481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2040" y="4410000"/>
            <a:ext cx="5133600" cy="4176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600" rIns="9360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dt" idx="31"/>
          </p:nvPr>
        </p:nvSpPr>
        <p:spPr>
          <a:xfrm>
            <a:off x="3965400" y="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16. 7. 19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32"/>
          </p:nvPr>
        </p:nvSpPr>
        <p:spPr>
          <a:xfrm>
            <a:off x="0" y="882000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 type="sldNum" idx="33"/>
          </p:nvPr>
        </p:nvSpPr>
        <p:spPr>
          <a:xfrm>
            <a:off x="3965400" y="882000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404640" y="696960"/>
            <a:ext cx="6187680" cy="3481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2040" y="4410000"/>
            <a:ext cx="5133600" cy="4176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600" rIns="9360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dt" idx="34"/>
          </p:nvPr>
        </p:nvSpPr>
        <p:spPr>
          <a:xfrm>
            <a:off x="3965400" y="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16. 7. 19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35"/>
          </p:nvPr>
        </p:nvSpPr>
        <p:spPr>
          <a:xfrm>
            <a:off x="0" y="882000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36"/>
          </p:nvPr>
        </p:nvSpPr>
        <p:spPr>
          <a:xfrm>
            <a:off x="3965400" y="8820000"/>
            <a:ext cx="3031920" cy="463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i="1" lang="cs-CZ" sz="1000" spc="-1" strike="noStrike">
                <a:solidFill>
                  <a:srgbClr val="000000"/>
                </a:solidFill>
                <a:latin typeface="Tahoma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i="1" lang="cs-CZ" sz="1000" spc="-1" strike="noStrike">
                <a:solidFill>
                  <a:srgbClr val="000000"/>
                </a:solidFill>
                <a:latin typeface="Tahoma"/>
                <a:ea typeface="+mn-ea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4F0-6F77-4EB5-BD85-4E5B19F9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920" y="160560"/>
            <a:ext cx="779256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1513440"/>
            <a:ext cx="777204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182600" y="3125160"/>
            <a:ext cx="777204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3EC-358B-429B-9AFD-8622BE79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920" y="160560"/>
            <a:ext cx="779256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151344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65280" y="151344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82600" y="312516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165280" y="312516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4966-1186-40E2-A025-E7DEF9BC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920" y="160560"/>
            <a:ext cx="779256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151344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10600" y="151344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438240" y="151344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182600" y="312516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810600" y="312516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438240" y="312516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8A64-47A3-4D25-9139-F303ACC3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F898-9ACA-445E-8EB4-342ACBC8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160560"/>
            <a:ext cx="779256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2600" y="1513440"/>
            <a:ext cx="77720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CF77-FF00-49C6-9875-64F9B3C5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160560"/>
            <a:ext cx="779256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513440"/>
            <a:ext cx="77720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7138-A0B2-4000-842A-BDD999A9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920" y="160560"/>
            <a:ext cx="779256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151344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151344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6CCA-E408-4399-B9E7-456F1936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920" y="160560"/>
            <a:ext cx="779256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1D99-C782-4A8A-BE92-25EDCA43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50920" y="160560"/>
            <a:ext cx="7792560" cy="50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3C5E-80CF-4509-96CA-54CE549F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920" y="160560"/>
            <a:ext cx="779256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51344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51344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312516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B8AF-10A5-4857-A6CF-07E9DD85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920" y="160560"/>
            <a:ext cx="779256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182600" y="1513440"/>
            <a:ext cx="77720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24FE-AE85-4491-A457-F313BE87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920" y="160560"/>
            <a:ext cx="779256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51344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151344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65280" y="312516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694E-45B8-4577-8822-EA41E9A2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160560"/>
            <a:ext cx="779256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51344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151344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3125160"/>
            <a:ext cx="777204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8EFE-BF78-4C91-B6F4-B1B37D37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920" y="160560"/>
            <a:ext cx="779256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513440"/>
            <a:ext cx="777204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82600" y="3125160"/>
            <a:ext cx="777204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E845-A15A-4640-A147-DE837612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920" y="160560"/>
            <a:ext cx="779256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51344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51344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12516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65280" y="312516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8483-5203-406B-B709-8147505B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920" y="160560"/>
            <a:ext cx="779256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151344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10600" y="151344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38240" y="151344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82600" y="312516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10600" y="312516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38240" y="312516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27D4-7504-46D5-BE22-6E26C45E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920" y="160560"/>
            <a:ext cx="779256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513440"/>
            <a:ext cx="77720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9831-1F30-4CC8-B052-78C26BEF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920" y="160560"/>
            <a:ext cx="779256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151344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151344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C1F5-1FBB-4261-97C8-3512B3BA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160560"/>
            <a:ext cx="779256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69D-F976-4C2E-93FB-C98AD6E1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0920" y="160560"/>
            <a:ext cx="7792560" cy="50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392-FFCF-468A-A4A8-2EA0B1E9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920" y="160560"/>
            <a:ext cx="779256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151344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151344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312516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5B9-AF1C-4A63-A2BA-5F16AD57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920" y="160560"/>
            <a:ext cx="779256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51344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51344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65280" y="312516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BFF6-4AC2-42D5-8CB1-F9466C17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920" y="160560"/>
            <a:ext cx="779256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151344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151344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3125160"/>
            <a:ext cx="777204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2CD-1B86-4203-8AE4-A6E30D6D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 hidden="1"/>
          <p:cNvSpPr/>
          <p:nvPr/>
        </p:nvSpPr>
        <p:spPr>
          <a:xfrm>
            <a:off x="417600" y="824040"/>
            <a:ext cx="437760" cy="35568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 hidden="1"/>
          <p:cNvSpPr/>
          <p:nvPr/>
        </p:nvSpPr>
        <p:spPr>
          <a:xfrm>
            <a:off x="800280" y="824040"/>
            <a:ext cx="328320" cy="35568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 hidden="1"/>
          <p:cNvSpPr/>
          <p:nvPr/>
        </p:nvSpPr>
        <p:spPr>
          <a:xfrm>
            <a:off x="541440" y="1140480"/>
            <a:ext cx="421920" cy="355680"/>
          </a:xfrm>
          <a:prstGeom prst="rect">
            <a:avLst/>
          </a:prstGeom>
          <a:solidFill>
            <a:schemeClr val="fol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 hidden="1"/>
          <p:cNvSpPr/>
          <p:nvPr/>
        </p:nvSpPr>
        <p:spPr>
          <a:xfrm>
            <a:off x="911160" y="1140480"/>
            <a:ext cx="367920" cy="355680"/>
          </a:xfrm>
          <a:prstGeom prst="rect">
            <a:avLst/>
          </a:prstGeom>
          <a:gradFill rotWithShape="0">
            <a:gsLst>
              <a:gs pos="0">
                <a:srgbClr val="76b749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 hidden="1"/>
          <p:cNvSpPr/>
          <p:nvPr/>
        </p:nvSpPr>
        <p:spPr>
          <a:xfrm>
            <a:off x="127080" y="1085760"/>
            <a:ext cx="560160" cy="316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81cf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 hidden="1"/>
          <p:cNvSpPr/>
          <p:nvPr/>
        </p:nvSpPr>
        <p:spPr>
          <a:xfrm>
            <a:off x="762120" y="743040"/>
            <a:ext cx="31320" cy="789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 hidden="1"/>
          <p:cNvSpPr/>
          <p:nvPr/>
        </p:nvSpPr>
        <p:spPr>
          <a:xfrm>
            <a:off x="442800" y="1335960"/>
            <a:ext cx="8226000" cy="2340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 algn="ctr">
              <a:lnSpc>
                <a:spcPct val="100000"/>
              </a:lnSpc>
            </a:pPr>
            <a:endParaRPr b="0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2"/>
          <p:cNvGrpSpPr/>
          <p:nvPr/>
        </p:nvGrpSpPr>
        <p:grpSpPr>
          <a:xfrm>
            <a:off x="0" y="1828800"/>
            <a:ext cx="9009000" cy="789120"/>
            <a:chOff x="0" y="1828800"/>
            <a:chExt cx="9009000" cy="789120"/>
          </a:xfrm>
        </p:grpSpPr>
        <p:grpSp>
          <p:nvGrpSpPr>
            <p:cNvPr id="8" name="Group 3"/>
            <p:cNvGrpSpPr/>
            <p:nvPr/>
          </p:nvGrpSpPr>
          <p:grpSpPr>
            <a:xfrm>
              <a:off x="290520" y="1909800"/>
              <a:ext cx="711000" cy="355680"/>
              <a:chOff x="290520" y="1909800"/>
              <a:chExt cx="711000" cy="355680"/>
            </a:xfrm>
          </p:grpSpPr>
          <p:sp>
            <p:nvSpPr>
              <p:cNvPr id="9" name="Rectangle 4"/>
              <p:cNvSpPr/>
              <p:nvPr/>
            </p:nvSpPr>
            <p:spPr>
              <a:xfrm>
                <a:off x="290520" y="1909800"/>
                <a:ext cx="437400" cy="35568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cs-CZ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5"/>
              <p:cNvSpPr/>
              <p:nvPr/>
            </p:nvSpPr>
            <p:spPr>
              <a:xfrm>
                <a:off x="673560" y="1909800"/>
                <a:ext cx="327960" cy="35568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cs-CZ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Group 6"/>
            <p:cNvGrpSpPr/>
            <p:nvPr/>
          </p:nvGrpSpPr>
          <p:grpSpPr>
            <a:xfrm>
              <a:off x="414360" y="2226600"/>
              <a:ext cx="737640" cy="355680"/>
              <a:chOff x="414360" y="2226600"/>
              <a:chExt cx="737640" cy="355680"/>
            </a:xfrm>
          </p:grpSpPr>
          <p:sp>
            <p:nvSpPr>
              <p:cNvPr id="12" name="Rectangle 7"/>
              <p:cNvSpPr/>
              <p:nvPr/>
            </p:nvSpPr>
            <p:spPr>
              <a:xfrm>
                <a:off x="414360" y="2226600"/>
                <a:ext cx="421560" cy="355680"/>
              </a:xfrm>
              <a:prstGeom prst="rect">
                <a:avLst/>
              </a:pr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cs-CZ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8"/>
              <p:cNvSpPr/>
              <p:nvPr/>
            </p:nvSpPr>
            <p:spPr>
              <a:xfrm>
                <a:off x="783360" y="2226600"/>
                <a:ext cx="368640" cy="35568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cs-CZ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" name="Rectangle 9"/>
            <p:cNvSpPr/>
            <p:nvPr/>
          </p:nvSpPr>
          <p:spPr>
            <a:xfrm>
              <a:off x="0" y="2171880"/>
              <a:ext cx="560160" cy="31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0"/>
            <p:cNvSpPr/>
            <p:nvPr/>
          </p:nvSpPr>
          <p:spPr>
            <a:xfrm>
              <a:off x="635040" y="1828800"/>
              <a:ext cx="31320" cy="7891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1"/>
            <p:cNvSpPr/>
            <p:nvPr/>
          </p:nvSpPr>
          <p:spPr>
            <a:xfrm flipV="1">
              <a:off x="316080" y="2444400"/>
              <a:ext cx="8692920" cy="41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257480"/>
            <a:ext cx="7772040" cy="109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66"/>
                </a:solidFill>
                <a:latin typeface="Tahoma"/>
              </a:rPr>
              <a:t>Klepnutím lze upravit styl předlohy nadpisů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dt" idx="1"/>
          </p:nvPr>
        </p:nvSpPr>
        <p:spPr>
          <a:xfrm>
            <a:off x="990720" y="4686480"/>
            <a:ext cx="1904760" cy="3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ftr" idx="2"/>
          </p:nvPr>
        </p:nvSpPr>
        <p:spPr>
          <a:xfrm>
            <a:off x="3429000" y="4686480"/>
            <a:ext cx="2895120" cy="3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sldNum" idx="3"/>
          </p:nvPr>
        </p:nvSpPr>
        <p:spPr>
          <a:xfrm>
            <a:off x="6858000" y="4686480"/>
            <a:ext cx="1904760" cy="3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E1062A-6AE1-41D6-920A-CEFB3F417C0D}" type="slidenum">
              <a:rPr b="0" lang="cs-CZ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17600" y="824040"/>
            <a:ext cx="437760" cy="35568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0280" y="824040"/>
            <a:ext cx="328320" cy="35568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41440" y="1140480"/>
            <a:ext cx="421920" cy="355680"/>
          </a:xfrm>
          <a:prstGeom prst="rect">
            <a:avLst/>
          </a:prstGeom>
          <a:solidFill>
            <a:schemeClr val="fol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911160" y="1140480"/>
            <a:ext cx="367920" cy="355680"/>
          </a:xfrm>
          <a:prstGeom prst="rect">
            <a:avLst/>
          </a:prstGeom>
          <a:gradFill rotWithShape="0">
            <a:gsLst>
              <a:gs pos="0">
                <a:srgbClr val="76b749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27080" y="1085760"/>
            <a:ext cx="560160" cy="316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81cf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62120" y="743040"/>
            <a:ext cx="31320" cy="789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442800" y="1335960"/>
            <a:ext cx="8226000" cy="2340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 algn="ctr">
              <a:lnSpc>
                <a:spcPct val="100000"/>
              </a:lnSpc>
            </a:pPr>
            <a:endParaRPr b="0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160560"/>
            <a:ext cx="7792560" cy="109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66"/>
                </a:solidFill>
                <a:latin typeface="Tahoma"/>
              </a:rPr>
              <a:t>Klepnutím lze upravit styl předlohy nadpisů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182600" y="1513440"/>
            <a:ext cx="7772040" cy="308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6b749"/>
              </a:buClr>
              <a:buSzPct val="60000"/>
              <a:buFont typeface="Wingdings" charset="2"/>
              <a:buChar char=""/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lepnutím lze upravit styly předlohy text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c481cf"/>
              </a:buClr>
              <a:buSzPct val="55000"/>
              <a:buFont typeface="Wingdings" charset="2"/>
              <a:buChar char=""/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ruhá úrove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76b749"/>
              </a:buClr>
              <a:buSzPct val="50000"/>
              <a:buFont typeface="Wingdings" charset="2"/>
              <a:buChar char=""/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řetí úrove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4b4eb5"/>
              </a:buClr>
              <a:buSzPct val="55000"/>
              <a:buFont typeface="Wingdings" charset="2"/>
              <a:buChar char=""/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Čtvrtá úrove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c4709a"/>
              </a:buClr>
              <a:buSzPct val="50000"/>
              <a:buFont typeface="Wingdings" charset="2"/>
              <a:buChar char=""/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átá úrove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1162080" y="4682880"/>
            <a:ext cx="1904760" cy="3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657600" y="4682880"/>
            <a:ext cx="2895120" cy="3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042320" y="4682880"/>
            <a:ext cx="1904760" cy="3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533457-CF15-48B4-8B72-C9A9A057FFFF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789480"/>
            <a:ext cx="8152920" cy="664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66"/>
                </a:solidFill>
                <a:latin typeface="Tahoma"/>
              </a:rPr>
              <a:t>Sčítání a odčítání mnohočlen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440" cy="131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atematika – 8. ročn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92000" y="339480"/>
            <a:ext cx="8351640" cy="863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66"/>
                </a:solidFill>
                <a:latin typeface="Tahoma"/>
              </a:rPr>
              <a:t>Sčítání a mnohočlen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76"/>
          <p:cNvSpPr/>
          <p:nvPr/>
        </p:nvSpPr>
        <p:spPr>
          <a:xfrm>
            <a:off x="0" y="141948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počtěte povrch kvád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délník 1"/>
          <p:cNvSpPr/>
          <p:nvPr/>
        </p:nvSpPr>
        <p:spPr>
          <a:xfrm>
            <a:off x="899640" y="1995840"/>
            <a:ext cx="863640" cy="1223640"/>
          </a:xfrm>
          <a:prstGeom prst="rect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Přímá spojnice 3"/>
          <p:cNvCxnSpPr/>
          <p:nvPr/>
        </p:nvCxnSpPr>
        <p:spPr>
          <a:xfrm flipV="1">
            <a:off x="899280" y="1707480"/>
            <a:ext cx="432720" cy="288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18" name="Přímá spojnice 19"/>
          <p:cNvCxnSpPr/>
          <p:nvPr/>
        </p:nvCxnSpPr>
        <p:spPr>
          <a:xfrm flipV="1">
            <a:off x="1763640" y="1706400"/>
            <a:ext cx="432360" cy="288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19" name="Přímá spojnice 20"/>
          <p:cNvCxnSpPr/>
          <p:nvPr/>
        </p:nvCxnSpPr>
        <p:spPr>
          <a:xfrm flipV="1">
            <a:off x="1763640" y="2934000"/>
            <a:ext cx="432360" cy="288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20" name="Přímá spojnice 21"/>
          <p:cNvCxnSpPr/>
          <p:nvPr/>
        </p:nvCxnSpPr>
        <p:spPr>
          <a:xfrm flipV="1">
            <a:off x="900000" y="2919240"/>
            <a:ext cx="432360" cy="288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21" name="Přímá spojnice 6"/>
          <p:cNvCxnSpPr/>
          <p:nvPr/>
        </p:nvCxnSpPr>
        <p:spPr>
          <a:xfrm>
            <a:off x="1331640" y="1710000"/>
            <a:ext cx="360" cy="1224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22" name="Přímá spojnice 24"/>
          <p:cNvCxnSpPr/>
          <p:nvPr/>
        </p:nvCxnSpPr>
        <p:spPr>
          <a:xfrm>
            <a:off x="2195640" y="1710000"/>
            <a:ext cx="360" cy="1224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23" name="Přímá spojnice 9"/>
          <p:cNvCxnSpPr/>
          <p:nvPr/>
        </p:nvCxnSpPr>
        <p:spPr>
          <a:xfrm>
            <a:off x="1332000" y="1707480"/>
            <a:ext cx="86400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24" name="Přímá spojnice 28"/>
          <p:cNvCxnSpPr/>
          <p:nvPr/>
        </p:nvCxnSpPr>
        <p:spPr>
          <a:xfrm>
            <a:off x="1332000" y="2926800"/>
            <a:ext cx="864000" cy="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sp>
        <p:nvSpPr>
          <p:cNvPr id="125" name="Obdélník 10"/>
          <p:cNvSpPr/>
          <p:nvPr/>
        </p:nvSpPr>
        <p:spPr>
          <a:xfrm>
            <a:off x="5436000" y="2322000"/>
            <a:ext cx="2664000" cy="755640"/>
          </a:xfrm>
          <a:prstGeom prst="rect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Přímá spojnice 12"/>
          <p:cNvCxnSpPr/>
          <p:nvPr/>
        </p:nvCxnSpPr>
        <p:spPr>
          <a:xfrm flipV="1">
            <a:off x="5436000" y="1865880"/>
            <a:ext cx="792360" cy="45648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27" name="Přímá spojnice 32"/>
          <p:cNvCxnSpPr/>
          <p:nvPr/>
        </p:nvCxnSpPr>
        <p:spPr>
          <a:xfrm flipV="1">
            <a:off x="8100360" y="1865880"/>
            <a:ext cx="792360" cy="45648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28" name="Přímá spojnice 33"/>
          <p:cNvCxnSpPr/>
          <p:nvPr/>
        </p:nvCxnSpPr>
        <p:spPr>
          <a:xfrm flipV="1">
            <a:off x="5436000" y="2607480"/>
            <a:ext cx="792360" cy="4561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29" name="Přímá spojnice 34"/>
          <p:cNvCxnSpPr/>
          <p:nvPr/>
        </p:nvCxnSpPr>
        <p:spPr>
          <a:xfrm flipV="1">
            <a:off x="8100360" y="2607480"/>
            <a:ext cx="792360" cy="45612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30" name="Přímá spojnice 14"/>
          <p:cNvCxnSpPr/>
          <p:nvPr/>
        </p:nvCxnSpPr>
        <p:spPr>
          <a:xfrm>
            <a:off x="6228000" y="1865880"/>
            <a:ext cx="360" cy="7419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1" name="Přímá spojnice 37"/>
          <p:cNvCxnSpPr/>
          <p:nvPr/>
        </p:nvCxnSpPr>
        <p:spPr>
          <a:xfrm>
            <a:off x="8892360" y="1865880"/>
            <a:ext cx="360" cy="7419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32" name="Přímá spojnice 16"/>
          <p:cNvCxnSpPr/>
          <p:nvPr/>
        </p:nvCxnSpPr>
        <p:spPr>
          <a:xfrm>
            <a:off x="6228000" y="1865880"/>
            <a:ext cx="266472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33" name="Přímá spojnice 40"/>
          <p:cNvCxnSpPr/>
          <p:nvPr/>
        </p:nvCxnSpPr>
        <p:spPr>
          <a:xfrm>
            <a:off x="6228000" y="2607480"/>
            <a:ext cx="2664720" cy="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sp>
        <p:nvSpPr>
          <p:cNvPr id="134" name="TextovéPole 17"/>
          <p:cNvSpPr/>
          <p:nvPr/>
        </p:nvSpPr>
        <p:spPr>
          <a:xfrm>
            <a:off x="2195640" y="2237040"/>
            <a:ext cx="431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ovéPole 42"/>
          <p:cNvSpPr/>
          <p:nvPr/>
        </p:nvSpPr>
        <p:spPr>
          <a:xfrm>
            <a:off x="1116000" y="3207600"/>
            <a:ext cx="431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ovéPole 43"/>
          <p:cNvSpPr/>
          <p:nvPr/>
        </p:nvSpPr>
        <p:spPr>
          <a:xfrm>
            <a:off x="755640" y="1585080"/>
            <a:ext cx="431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ovéPole 44"/>
          <p:cNvSpPr/>
          <p:nvPr/>
        </p:nvSpPr>
        <p:spPr>
          <a:xfrm>
            <a:off x="6552360" y="3096000"/>
            <a:ext cx="431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9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ovéPole 45"/>
          <p:cNvSpPr/>
          <p:nvPr/>
        </p:nvSpPr>
        <p:spPr>
          <a:xfrm>
            <a:off x="5445360" y="1826280"/>
            <a:ext cx="431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5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ovéPole 46"/>
          <p:cNvSpPr/>
          <p:nvPr/>
        </p:nvSpPr>
        <p:spPr>
          <a:xfrm>
            <a:off x="4988880" y="2473560"/>
            <a:ext cx="431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TextovéPole 18"/>
              <p:cNvSpPr txBox="1"/>
              <p:nvPr/>
            </p:nvSpPr>
            <p:spPr>
              <a:xfrm>
                <a:off x="0" y="4320000"/>
                <a:ext cx="2808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𝐒</m:t>
                    </m:r>
                    <m:r>
                      <m:t xml:space="preserve">=</m:t>
                    </m:r>
                    <m:r>
                      <m:t xml:space="preserve">𝟏𝟔</m:t>
                    </m:r>
                    <m:sSup>
                      <m:e>
                        <m:r>
                          <m:t xml:space="preserve">𝐚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𝟐𝟒</m:t>
                    </m:r>
                    <m:sSup>
                      <m:e>
                        <m:r>
                          <m:t xml:space="preserve">𝐚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𝟏𝟐</m:t>
                    </m:r>
                    <m:sSup>
                      <m:e>
                        <m:r>
                          <m:t xml:space="preserve">𝐚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TextovéPole 48"/>
              <p:cNvSpPr txBox="1"/>
              <p:nvPr/>
            </p:nvSpPr>
            <p:spPr>
              <a:xfrm>
                <a:off x="0" y="3780000"/>
                <a:ext cx="377964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𝐒</m:t>
                    </m:r>
                    <m:r>
                      <m:t xml:space="preserve">=</m:t>
                    </m:r>
                    <m:r>
                      <m:t xml:space="preserve">𝟐</m:t>
                    </m:r>
                    <m:r>
                      <m:t xml:space="preserve">∙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𝟐</m:t>
                        </m:r>
                        <m:r>
                          <m:t xml:space="preserve">𝐚</m:t>
                        </m:r>
                        <m:r>
                          <m:t xml:space="preserve">∙</m:t>
                        </m:r>
                        <m:r>
                          <m:t xml:space="preserve">𝟒</m:t>
                        </m:r>
                        <m:r>
                          <m:t xml:space="preserve">𝐚</m:t>
                        </m:r>
                        <m:r>
                          <m:t xml:space="preserve">+</m:t>
                        </m:r>
                        <m:r>
                          <m:t xml:space="preserve">𝟑</m:t>
                        </m:r>
                        <m:r>
                          <m:t xml:space="preserve">𝐚</m:t>
                        </m:r>
                        <m:r>
                          <m:t xml:space="preserve">∙</m:t>
                        </m:r>
                        <m:r>
                          <m:t xml:space="preserve">𝟒</m:t>
                        </m:r>
                        <m:r>
                          <m:t xml:space="preserve">𝐚</m:t>
                        </m:r>
                        <m:r>
                          <m:t xml:space="preserve">+</m:t>
                        </m:r>
                        <m:r>
                          <m:t xml:space="preserve">𝟐</m:t>
                        </m:r>
                        <m:r>
                          <m:t xml:space="preserve">𝐚</m:t>
                        </m:r>
                        <m:r>
                          <m:t xml:space="preserve">∙</m:t>
                        </m:r>
                        <m:r>
                          <m:t xml:space="preserve">𝟑</m:t>
                        </m:r>
                        <m:r>
                          <m:t xml:space="preserve">𝐚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TextovéPole 49"/>
              <p:cNvSpPr txBox="1"/>
              <p:nvPr/>
            </p:nvSpPr>
            <p:spPr>
              <a:xfrm>
                <a:off x="2592000" y="4320000"/>
                <a:ext cx="102276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𝟓𝟐</m:t>
                    </m:r>
                    <m:sSup>
                      <m:e>
                        <m:r>
                          <m:t xml:space="preserve">𝐚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TextovéPole 50"/>
              <p:cNvSpPr txBox="1"/>
              <p:nvPr/>
            </p:nvSpPr>
            <p:spPr>
              <a:xfrm>
                <a:off x="5040000" y="4320000"/>
                <a:ext cx="2808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𝐒</m:t>
                    </m:r>
                    <m:r>
                      <m:t xml:space="preserve">=</m:t>
                    </m:r>
                    <m:r>
                      <m:t xml:space="preserve">𝟑𝟔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𝟐𝟎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𝟗𝟎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TextovéPole 51"/>
              <p:cNvSpPr txBox="1"/>
              <p:nvPr/>
            </p:nvSpPr>
            <p:spPr>
              <a:xfrm>
                <a:off x="5040000" y="3780000"/>
                <a:ext cx="3744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𝐒</m:t>
                    </m:r>
                    <m:r>
                      <m:t xml:space="preserve">=</m:t>
                    </m:r>
                    <m:r>
                      <m:t xml:space="preserve">𝟐</m:t>
                    </m:r>
                    <m:r>
                      <m:t xml:space="preserve">∙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𝟐</m:t>
                        </m:r>
                        <m:r>
                          <m:t xml:space="preserve">𝐱</m:t>
                        </m:r>
                        <m:r>
                          <m:t xml:space="preserve">∙</m:t>
                        </m:r>
                        <m:r>
                          <m:t xml:space="preserve">𝟗</m:t>
                        </m:r>
                        <m:r>
                          <m:t xml:space="preserve">𝐱</m:t>
                        </m:r>
                        <m:r>
                          <m:t xml:space="preserve">+</m:t>
                        </m:r>
                        <m:r>
                          <m:t xml:space="preserve">𝟐</m:t>
                        </m:r>
                        <m:r>
                          <m:t xml:space="preserve">𝐱</m:t>
                        </m:r>
                        <m:r>
                          <m:t xml:space="preserve">∙</m:t>
                        </m:r>
                        <m:r>
                          <m:t xml:space="preserve">𝟓</m:t>
                        </m:r>
                        <m:r>
                          <m:t xml:space="preserve">𝐱</m:t>
                        </m:r>
                        <m:r>
                          <m:t xml:space="preserve">+</m:t>
                        </m:r>
                        <m:r>
                          <m:t xml:space="preserve">𝟓</m:t>
                        </m:r>
                        <m:r>
                          <m:t xml:space="preserve">𝐱</m:t>
                        </m:r>
                        <m:r>
                          <m:t xml:space="preserve">∙</m:t>
                        </m:r>
                        <m:r>
                          <m:t xml:space="preserve">𝟗</m:t>
                        </m:r>
                        <m:r>
                          <m:t xml:space="preserve">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TextovéPole 52"/>
              <p:cNvSpPr txBox="1"/>
              <p:nvPr/>
            </p:nvSpPr>
            <p:spPr>
              <a:xfrm>
                <a:off x="7632000" y="4320000"/>
                <a:ext cx="102276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𝟏𝟒𝟔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92000" y="51480"/>
            <a:ext cx="8351640" cy="1096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66"/>
                </a:solidFill>
                <a:latin typeface="Tahoma"/>
              </a:rPr>
              <a:t>Sčítání a mnohočlen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76"/>
          <p:cNvSpPr/>
          <p:nvPr/>
        </p:nvSpPr>
        <p:spPr>
          <a:xfrm>
            <a:off x="0" y="134748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počtě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TextovéPole 21"/>
              <p:cNvSpPr txBox="1"/>
              <p:nvPr/>
            </p:nvSpPr>
            <p:spPr>
              <a:xfrm>
                <a:off x="0" y="1980000"/>
                <a:ext cx="133128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𝟐</m:t>
                    </m:r>
                    <m:r>
                      <m:t xml:space="preserve">𝐚</m:t>
                    </m:r>
                    <m:r>
                      <m:t xml:space="preserve">+</m:t>
                    </m:r>
                    <m:r>
                      <m:t xml:space="preserve">𝟑</m:t>
                    </m:r>
                    <m:r>
                      <m:t xml:space="preserve">𝐛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TextovéPole 22"/>
              <p:cNvSpPr txBox="1"/>
              <p:nvPr/>
            </p:nvSpPr>
            <p:spPr>
              <a:xfrm>
                <a:off x="0" y="2520000"/>
                <a:ext cx="133128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𝟐</m:t>
                    </m:r>
                    <m:r>
                      <m:t xml:space="preserve">𝐚</m:t>
                    </m:r>
                    <m:r>
                      <m:t xml:space="preserve">+</m:t>
                    </m:r>
                    <m:r>
                      <m:t xml:space="preserve">𝟑</m:t>
                    </m:r>
                    <m:r>
                      <m:t xml:space="preserve">𝐚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TextovéPole 23"/>
              <p:cNvSpPr txBox="1"/>
              <p:nvPr/>
            </p:nvSpPr>
            <p:spPr>
              <a:xfrm>
                <a:off x="0" y="3060000"/>
                <a:ext cx="147528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𝟐</m:t>
                    </m:r>
                    <m:r>
                      <m:t xml:space="preserve">𝐚</m:t>
                    </m:r>
                    <m:r>
                      <m:t xml:space="preserve">+</m:t>
                    </m:r>
                    <m:r>
                      <m:t xml:space="preserve">𝟑</m:t>
                    </m:r>
                    <m:sSup>
                      <m:e>
                        <m:r>
                          <m:t xml:space="preserve">𝐚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TextovéPole 24"/>
              <p:cNvSpPr txBox="1"/>
              <p:nvPr/>
            </p:nvSpPr>
            <p:spPr>
              <a:xfrm>
                <a:off x="0" y="3600000"/>
                <a:ext cx="147528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𝟐</m:t>
                    </m:r>
                    <m:sSup>
                      <m:e>
                        <m:r>
                          <m:t xml:space="preserve">𝐚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𝟑</m:t>
                    </m:r>
                    <m:sSup>
                      <m:e>
                        <m:r>
                          <m:t xml:space="preserve">𝐚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TextovéPole 1"/>
          <p:cNvSpPr/>
          <p:nvPr/>
        </p:nvSpPr>
        <p:spPr>
          <a:xfrm>
            <a:off x="-26280" y="4434840"/>
            <a:ext cx="9169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čítat lze pouze ty členy, které mají stejné proměnné se stejným mocnitel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TextovéPole 26"/>
              <p:cNvSpPr txBox="1"/>
              <p:nvPr/>
            </p:nvSpPr>
            <p:spPr>
              <a:xfrm>
                <a:off x="1116000" y="1980000"/>
                <a:ext cx="115164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𝟐</m:t>
                    </m:r>
                    <m:r>
                      <m:t xml:space="preserve">𝐚</m:t>
                    </m:r>
                    <m:r>
                      <m:t xml:space="preserve">+</m:t>
                    </m:r>
                    <m:r>
                      <m:t xml:space="preserve">𝟑</m:t>
                    </m:r>
                    <m:r>
                      <m:t xml:space="preserve">𝐛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TextovéPole 27"/>
          <p:cNvSpPr/>
          <p:nvPr/>
        </p:nvSpPr>
        <p:spPr>
          <a:xfrm>
            <a:off x="2340000" y="1980000"/>
            <a:ext cx="165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sečíst nel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TextovéPole 28"/>
              <p:cNvSpPr txBox="1"/>
              <p:nvPr/>
            </p:nvSpPr>
            <p:spPr>
              <a:xfrm>
                <a:off x="1116000" y="2520000"/>
                <a:ext cx="115164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𝟓</m:t>
                    </m:r>
                    <m:r>
                      <m:t xml:space="preserve">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TextovéPole 29"/>
              <p:cNvSpPr txBox="1"/>
              <p:nvPr/>
            </p:nvSpPr>
            <p:spPr>
              <a:xfrm>
                <a:off x="1188000" y="3060000"/>
                <a:ext cx="117036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𝟐</m:t>
                    </m:r>
                    <m:r>
                      <m:t xml:space="preserve">𝐚</m:t>
                    </m:r>
                    <m:r>
                      <m:t xml:space="preserve">+</m:t>
                    </m:r>
                    <m:r>
                      <m:t xml:space="preserve">𝟑</m:t>
                    </m:r>
                    <m:sSup>
                      <m:e>
                        <m:r>
                          <m:t xml:space="preserve">𝐚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7" name="TextovéPole 30"/>
          <p:cNvSpPr/>
          <p:nvPr/>
        </p:nvSpPr>
        <p:spPr>
          <a:xfrm>
            <a:off x="2340000" y="3060000"/>
            <a:ext cx="165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sečíst nel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TextovéPole 31"/>
              <p:cNvSpPr txBox="1"/>
              <p:nvPr/>
            </p:nvSpPr>
            <p:spPr>
              <a:xfrm>
                <a:off x="1369080" y="3600000"/>
                <a:ext cx="115164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𝟓</m:t>
                    </m:r>
                    <m:sSup>
                      <m:e>
                        <m:r>
                          <m:t xml:space="preserve">𝐚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TextovéPole 32"/>
              <p:cNvSpPr txBox="1"/>
              <p:nvPr/>
            </p:nvSpPr>
            <p:spPr>
              <a:xfrm>
                <a:off x="5040000" y="1980000"/>
                <a:ext cx="133128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𝟕</m:t>
                    </m:r>
                    <m:r>
                      <m:t xml:space="preserve">𝐱</m:t>
                    </m:r>
                    <m:r>
                      <m:t xml:space="preserve">+</m:t>
                    </m:r>
                    <m:r>
                      <m:t xml:space="preserve">𝟑</m:t>
                    </m:r>
                    <m:r>
                      <m:t xml:space="preserve">𝐱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TextovéPole 33"/>
              <p:cNvSpPr txBox="1"/>
              <p:nvPr/>
            </p:nvSpPr>
            <p:spPr>
              <a:xfrm>
                <a:off x="6156000" y="1980000"/>
                <a:ext cx="115164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𝟏𝟎</m:t>
                    </m:r>
                    <m:r>
                      <m:t xml:space="preserve">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TextovéPole 34"/>
              <p:cNvSpPr txBox="1"/>
              <p:nvPr/>
            </p:nvSpPr>
            <p:spPr>
              <a:xfrm>
                <a:off x="5040000" y="2520000"/>
                <a:ext cx="1800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𝟕</m:t>
                    </m:r>
                    <m:sSup>
                      <m:e>
                        <m:r>
                          <m:t xml:space="preserve">𝐩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𝟐</m:t>
                    </m:r>
                    <m:sSup>
                      <m:e>
                        <m:r>
                          <m:t xml:space="preserve">𝐩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TextovéPole 35"/>
              <p:cNvSpPr txBox="1"/>
              <p:nvPr/>
            </p:nvSpPr>
            <p:spPr>
              <a:xfrm>
                <a:off x="6660360" y="2520000"/>
                <a:ext cx="115164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𝟓</m:t>
                    </m:r>
                    <m:sSup>
                      <m:e>
                        <m:r>
                          <m:t xml:space="preserve">𝐩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TextovéPole 38"/>
              <p:cNvSpPr txBox="1"/>
              <p:nvPr/>
            </p:nvSpPr>
            <p:spPr>
              <a:xfrm>
                <a:off x="5040000" y="3060000"/>
                <a:ext cx="180000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𝟕</m:t>
                    </m:r>
                    <m:r>
                      <m:t xml:space="preserve">𝐛</m:t>
                    </m:r>
                    <m:r>
                      <m:t xml:space="preserve">+</m:t>
                    </m:r>
                    <m:r>
                      <m:t xml:space="preserve">𝟒</m:t>
                    </m:r>
                    <m:r>
                      <m:t xml:space="preserve">𝐛</m:t>
                    </m:r>
                    <m:r>
                      <m:t xml:space="preserve">+</m:t>
                    </m:r>
                    <m:r>
                      <m:t xml:space="preserve">𝐛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TextovéPole 39"/>
              <p:cNvSpPr txBox="1"/>
              <p:nvPr/>
            </p:nvSpPr>
            <p:spPr>
              <a:xfrm>
                <a:off x="6623640" y="3060000"/>
                <a:ext cx="75636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𝟏𝟐</m:t>
                    </m:r>
                    <m:r>
                      <m:t xml:space="preserve">𝐛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TextovéPole 40"/>
              <p:cNvSpPr txBox="1"/>
              <p:nvPr/>
            </p:nvSpPr>
            <p:spPr>
              <a:xfrm>
                <a:off x="5040000" y="3600000"/>
                <a:ext cx="2376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𝟓</m:t>
                    </m:r>
                    <m:sSup>
                      <m:e>
                        <m:r>
                          <m:t xml:space="preserve">𝒔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𝟑</m:t>
                    </m:r>
                    <m:sSup>
                      <m:e>
                        <m:r>
                          <m:t xml:space="preserve">𝒔</m:t>
                        </m:r>
                      </m:e>
                      <m:sup>
                        <m:r>
                          <m:t xml:space="preserve">𝟑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𝟏𝟐</m:t>
                    </m:r>
                    <m:sSup>
                      <m:e>
                        <m:r>
                          <m:t xml:space="preserve">𝒔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TextovéPole 41"/>
              <p:cNvSpPr txBox="1"/>
              <p:nvPr/>
            </p:nvSpPr>
            <p:spPr>
              <a:xfrm>
                <a:off x="7128000" y="3600000"/>
                <a:ext cx="1584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𝟏𝟕</m:t>
                    </m:r>
                    <m:sSup>
                      <m:e>
                        <m:r>
                          <m:t xml:space="preserve">𝒔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𝟑</m:t>
                    </m:r>
                    <m:sSup>
                      <m:e>
                        <m:r>
                          <m:t xml:space="preserve">𝒔</m:t>
                        </m:r>
                      </m:e>
                      <m:sup>
                        <m:r>
                          <m:t xml:space="preserve">𝟑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92000" y="51480"/>
            <a:ext cx="8351640" cy="1096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66"/>
                </a:solidFill>
                <a:latin typeface="Tahoma"/>
              </a:rPr>
              <a:t>Sčítání a mnohočlen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6"/>
          <p:cNvSpPr/>
          <p:nvPr/>
        </p:nvSpPr>
        <p:spPr>
          <a:xfrm>
            <a:off x="0" y="1410480"/>
            <a:ext cx="59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čtěte mnohočle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TextovéPole 21"/>
              <p:cNvSpPr txBox="1"/>
              <p:nvPr/>
            </p:nvSpPr>
            <p:spPr>
              <a:xfrm>
                <a:off x="0" y="1980000"/>
                <a:ext cx="169128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𝟐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𝟓</m:t>
                    </m:r>
                    <m:r>
                      <m:t xml:space="preserve">𝐱</m:t>
                    </m:r>
                    <m:r>
                      <m:t xml:space="preserve">−</m:t>
                    </m:r>
                    <m:r>
                      <m:t xml:space="preserve">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délník 2"/>
              <p:cNvSpPr txBox="1"/>
              <p:nvPr/>
            </p:nvSpPr>
            <p:spPr>
              <a:xfrm>
                <a:off x="1619640" y="1980000"/>
                <a:ext cx="37512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délník 3"/>
              <p:cNvSpPr txBox="1"/>
              <p:nvPr/>
            </p:nvSpPr>
            <p:spPr>
              <a:xfrm>
                <a:off x="2160000" y="1980000"/>
                <a:ext cx="168156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𝟒</m:t>
                    </m:r>
                    <m:r>
                      <m:t xml:space="preserve">−</m:t>
                    </m:r>
                    <m:r>
                      <m:t xml:space="preserve">𝟐</m:t>
                    </m:r>
                    <m:r>
                      <m:t xml:space="preserve">𝐱</m:t>
                    </m:r>
                    <m:r>
                      <m:t xml:space="preserve">+</m:t>
                    </m:r>
                    <m:r>
                      <m:t xml:space="preserve">𝟑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délník 36"/>
              <p:cNvSpPr txBox="1"/>
              <p:nvPr/>
            </p:nvSpPr>
            <p:spPr>
              <a:xfrm>
                <a:off x="3780000" y="1980000"/>
                <a:ext cx="44892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TextovéPole 37"/>
              <p:cNvSpPr txBox="1"/>
              <p:nvPr/>
            </p:nvSpPr>
            <p:spPr>
              <a:xfrm>
                <a:off x="4320000" y="1980000"/>
                <a:ext cx="39960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𝟐</m:t>
                        </m:r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𝟓</m:t>
                        </m:r>
                        <m:r>
                          <m:t xml:space="preserve">𝐱</m:t>
                        </m:r>
                        <m:r>
                          <m:t xml:space="preserve">−</m:t>
                        </m:r>
                        <m:r>
                          <m:t xml:space="preserve">𝟕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𝟒</m:t>
                        </m:r>
                        <m:r>
                          <m:t xml:space="preserve">−</m:t>
                        </m:r>
                        <m:r>
                          <m:t xml:space="preserve">𝟐</m:t>
                        </m:r>
                        <m:r>
                          <m:t xml:space="preserve">𝐱</m:t>
                        </m:r>
                        <m:r>
                          <m:t xml:space="preserve">+</m:t>
                        </m:r>
                        <m:r>
                          <m:t xml:space="preserve">𝟑</m:t>
                        </m:r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TextovéPole 4"/>
          <p:cNvSpPr/>
          <p:nvPr/>
        </p:nvSpPr>
        <p:spPr>
          <a:xfrm>
            <a:off x="0" y="2520000"/>
            <a:ext cx="31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. Odstraníme závorky *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ovéPole 42"/>
          <p:cNvSpPr/>
          <p:nvPr/>
        </p:nvSpPr>
        <p:spPr>
          <a:xfrm>
            <a:off x="6191640" y="1275480"/>
            <a:ext cx="295200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pokud je před závorkou + </a:t>
            </a:r>
            <a:br>
              <a:rPr sz="1400"/>
            </a:b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   opíšeme vše co je v závorce </a:t>
            </a:r>
            <a:br>
              <a:rPr sz="1400"/>
            </a:b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   se zachováním znamé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TextovéPole 43"/>
              <p:cNvSpPr txBox="1"/>
              <p:nvPr/>
            </p:nvSpPr>
            <p:spPr>
              <a:xfrm>
                <a:off x="4320000" y="3780000"/>
                <a:ext cx="481068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𝟐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𝟑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𝟓</m:t>
                    </m:r>
                    <m:r>
                      <m:t xml:space="preserve">𝐱</m:t>
                    </m:r>
                    <m:r>
                      <m:t xml:space="preserve">−</m:t>
                    </m:r>
                    <m:r>
                      <m:t xml:space="preserve">𝟐</m:t>
                    </m:r>
                    <m:r>
                      <m:t xml:space="preserve">𝐱</m:t>
                    </m:r>
                    <m:r>
                      <m:t xml:space="preserve">−</m:t>
                    </m:r>
                    <m:r>
                      <m:t xml:space="preserve">𝟕</m:t>
                    </m:r>
                    <m:r>
                      <m:t xml:space="preserve">+</m:t>
                    </m:r>
                    <m:r>
                      <m:t xml:space="preserve">𝟒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TextovéPole 44"/>
          <p:cNvSpPr/>
          <p:nvPr/>
        </p:nvSpPr>
        <p:spPr>
          <a:xfrm>
            <a:off x="0" y="3060000"/>
            <a:ext cx="442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. Určíme členy, ve kterých jsou stejné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proměnné se stejnými mocnite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TextovéPole 45"/>
              <p:cNvSpPr txBox="1"/>
              <p:nvPr/>
            </p:nvSpPr>
            <p:spPr>
              <a:xfrm>
                <a:off x="4332960" y="3240000"/>
                <a:ext cx="481068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délník 5"/>
              <p:cNvSpPr txBox="1"/>
              <p:nvPr/>
            </p:nvSpPr>
            <p:spPr>
              <a:xfrm>
                <a:off x="4572000" y="3240000"/>
                <a:ext cx="630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𝟐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délník 6"/>
              <p:cNvSpPr txBox="1"/>
              <p:nvPr/>
            </p:nvSpPr>
            <p:spPr>
              <a:xfrm>
                <a:off x="5184000" y="3240000"/>
                <a:ext cx="51948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𝟓</m:t>
                    </m:r>
                    <m:r>
                      <m:t xml:space="preserve">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délník 7"/>
              <p:cNvSpPr txBox="1"/>
              <p:nvPr/>
            </p:nvSpPr>
            <p:spPr>
              <a:xfrm>
                <a:off x="5688000" y="3240000"/>
                <a:ext cx="38628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délník 8"/>
              <p:cNvSpPr txBox="1"/>
              <p:nvPr/>
            </p:nvSpPr>
            <p:spPr>
              <a:xfrm>
                <a:off x="6120000" y="3240000"/>
                <a:ext cx="38628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délník 9"/>
              <p:cNvSpPr txBox="1"/>
              <p:nvPr/>
            </p:nvSpPr>
            <p:spPr>
              <a:xfrm>
                <a:off x="6552000" y="3240000"/>
                <a:ext cx="50796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𝟐</m:t>
                    </m:r>
                    <m:r>
                      <m:t xml:space="preserve">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délník 10"/>
              <p:cNvSpPr txBox="1"/>
              <p:nvPr/>
            </p:nvSpPr>
            <p:spPr>
              <a:xfrm>
                <a:off x="7092000" y="3240000"/>
                <a:ext cx="630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𝟑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5" name="TextovéPole 46"/>
          <p:cNvSpPr/>
          <p:nvPr/>
        </p:nvSpPr>
        <p:spPr>
          <a:xfrm>
            <a:off x="0" y="3780000"/>
            <a:ext cx="4007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. Tyto členy sečteme (odečtem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evá složená závorka 11"/>
          <p:cNvSpPr/>
          <p:nvPr/>
        </p:nvSpPr>
        <p:spPr>
          <a:xfrm rot="16200000">
            <a:off x="5004000" y="3816360"/>
            <a:ext cx="287640" cy="935640"/>
          </a:xfrm>
          <a:prstGeom prst="leftBrace">
            <a:avLst>
              <a:gd name="adj1" fmla="val 8333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evá složená závorka 47"/>
          <p:cNvSpPr/>
          <p:nvPr/>
        </p:nvSpPr>
        <p:spPr>
          <a:xfrm rot="16200000">
            <a:off x="6228000" y="3845520"/>
            <a:ext cx="287640" cy="863640"/>
          </a:xfrm>
          <a:prstGeom prst="leftBrace">
            <a:avLst>
              <a:gd name="adj1" fmla="val 8333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evá složená závorka 48"/>
          <p:cNvSpPr/>
          <p:nvPr/>
        </p:nvSpPr>
        <p:spPr>
          <a:xfrm rot="16200000">
            <a:off x="7147080" y="4013280"/>
            <a:ext cx="287640" cy="503640"/>
          </a:xfrm>
          <a:prstGeom prst="leftBrace">
            <a:avLst>
              <a:gd name="adj1" fmla="val 8333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TextovéPole 49"/>
              <p:cNvSpPr txBox="1"/>
              <p:nvPr/>
            </p:nvSpPr>
            <p:spPr>
              <a:xfrm>
                <a:off x="4320000" y="2520000"/>
                <a:ext cx="3708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𝟐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𝟓</m:t>
                    </m:r>
                    <m:r>
                      <m:t xml:space="preserve">𝐱</m:t>
                    </m:r>
                    <m:r>
                      <m:t xml:space="preserve">−</m:t>
                    </m:r>
                    <m:r>
                      <m:t xml:space="preserve">𝟕</m:t>
                    </m:r>
                    <m:r>
                      <m:t xml:space="preserve">+</m:t>
                    </m:r>
                    <m:r>
                      <m:t xml:space="preserve">𝟒</m:t>
                    </m:r>
                    <m:r>
                      <m:t xml:space="preserve">−</m:t>
                    </m:r>
                    <m:r>
                      <m:t xml:space="preserve">𝟐</m:t>
                    </m:r>
                    <m:r>
                      <m:t xml:space="preserve">𝐱</m:t>
                    </m:r>
                    <m:r>
                      <m:t xml:space="preserve">+</m:t>
                    </m:r>
                    <m:r>
                      <m:t xml:space="preserve">𝟑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TextovéPole 50"/>
              <p:cNvSpPr txBox="1"/>
              <p:nvPr/>
            </p:nvSpPr>
            <p:spPr>
              <a:xfrm>
                <a:off x="4320000" y="4500000"/>
                <a:ext cx="481068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𝟓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𝟑</m:t>
                    </m:r>
                    <m:r>
                      <m:t xml:space="preserve">𝐱</m:t>
                    </m:r>
                    <m:r>
                      <m:t xml:space="preserve">−</m:t>
                    </m:r>
                    <m:r>
                      <m:t xml:space="preserve">𝟑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9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9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b4eb5"/>
                                      </p:to>
                                    </p:animClr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b4eb5"/>
                                      </p:to>
                                    </p:animClr>
                                    <p:set>
                                      <p:cBhvr>
                                        <p:cTn id="40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b4eb5"/>
                                      </p:to>
                                    </p:animClr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b4eb5"/>
                                      </p:to>
                                    </p:animClr>
                                    <p:set>
                                      <p:cBhvr>
                                        <p:cTn id="41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2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2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92000" y="51480"/>
            <a:ext cx="8351640" cy="1096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66"/>
                </a:solidFill>
                <a:latin typeface="Tahoma"/>
              </a:rPr>
              <a:t>Sčítání a mnohočlen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76"/>
          <p:cNvSpPr/>
          <p:nvPr/>
        </p:nvSpPr>
        <p:spPr>
          <a:xfrm>
            <a:off x="0" y="1410480"/>
            <a:ext cx="59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počítej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TextovéPole 21"/>
              <p:cNvSpPr txBox="1"/>
              <p:nvPr/>
            </p:nvSpPr>
            <p:spPr>
              <a:xfrm>
                <a:off x="0" y="1980000"/>
                <a:ext cx="43556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𝟓</m:t>
                        </m:r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𝟐</m:t>
                        </m:r>
                        <m:r>
                          <m:t xml:space="preserve">𝐱</m:t>
                        </m:r>
                        <m:r>
                          <m:t xml:space="preserve">−</m:t>
                        </m:r>
                        <m:r>
                          <m:t xml:space="preserve">𝟕</m:t>
                        </m:r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𝟑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𝟒</m:t>
                        </m:r>
                        <m:r>
                          <m:t xml:space="preserve">𝐱</m:t>
                        </m:r>
                        <m:r>
                          <m:t xml:space="preserve">−</m:t>
                        </m:r>
                        <m:r>
                          <m:t xml:space="preserve">𝟐</m:t>
                        </m:r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𝟑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TextovéPole 25"/>
              <p:cNvSpPr txBox="1"/>
              <p:nvPr/>
            </p:nvSpPr>
            <p:spPr>
              <a:xfrm>
                <a:off x="4140000" y="1980000"/>
                <a:ext cx="3816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𝟓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𝟐</m:t>
                    </m:r>
                    <m:r>
                      <m:t xml:space="preserve">𝐱</m:t>
                    </m:r>
                    <m:r>
                      <m:t xml:space="preserve">−</m:t>
                    </m:r>
                    <m:r>
                      <m:t xml:space="preserve">𝟕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𝟑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𝟒</m:t>
                    </m:r>
                    <m:r>
                      <m:t xml:space="preserve">𝐱</m:t>
                    </m:r>
                    <m:r>
                      <m:t xml:space="preserve">−</m:t>
                    </m:r>
                    <m:r>
                      <m:t xml:space="preserve">𝟐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𝟑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Oblouk 13"/>
          <p:cNvSpPr/>
          <p:nvPr/>
        </p:nvSpPr>
        <p:spPr>
          <a:xfrm rot="5400000">
            <a:off x="5583600" y="846360"/>
            <a:ext cx="596880" cy="2996640"/>
          </a:xfrm>
          <a:prstGeom prst="arc">
            <a:avLst>
              <a:gd name="adj1" fmla="val 16200000"/>
              <a:gd name="adj2" fmla="val 5392958"/>
            </a:avLst>
          </a:prstGeom>
          <a:noFill/>
          <a:ln w="9525">
            <a:solidFill>
              <a:srgbClr val="00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blouk 29"/>
          <p:cNvSpPr/>
          <p:nvPr/>
        </p:nvSpPr>
        <p:spPr>
          <a:xfrm rot="5400000">
            <a:off x="5423400" y="1622160"/>
            <a:ext cx="412920" cy="1340640"/>
          </a:xfrm>
          <a:prstGeom prst="arc">
            <a:avLst>
              <a:gd name="adj1" fmla="val 16200000"/>
              <a:gd name="adj2" fmla="val 5392958"/>
            </a:avLst>
          </a:prstGeom>
          <a:noFill/>
          <a:ln w="9525">
            <a:solidFill>
              <a:srgbClr val="00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blouk 30"/>
          <p:cNvSpPr/>
          <p:nvPr/>
        </p:nvSpPr>
        <p:spPr>
          <a:xfrm rot="5400000">
            <a:off x="5990400" y="1737360"/>
            <a:ext cx="412920" cy="1215000"/>
          </a:xfrm>
          <a:prstGeom prst="arc">
            <a:avLst>
              <a:gd name="adj1" fmla="val 16200000"/>
              <a:gd name="adj2" fmla="val 5392958"/>
            </a:avLst>
          </a:prstGeom>
          <a:noFill/>
          <a:ln w="9525">
            <a:solidFill>
              <a:srgbClr val="00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TextovéPole 31"/>
              <p:cNvSpPr txBox="1"/>
              <p:nvPr/>
            </p:nvSpPr>
            <p:spPr>
              <a:xfrm>
                <a:off x="0" y="2340000"/>
                <a:ext cx="2304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𝟗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𝟑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𝟔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TextovéPole 32"/>
              <p:cNvSpPr txBox="1"/>
              <p:nvPr/>
            </p:nvSpPr>
            <p:spPr>
              <a:xfrm>
                <a:off x="0" y="2700000"/>
                <a:ext cx="414324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𝟑</m:t>
                        </m:r>
                        <m:r>
                          <m:t xml:space="preserve">𝐚</m:t>
                        </m:r>
                        <m:r>
                          <m:t xml:space="preserve">+</m:t>
                        </m:r>
                        <m:r>
                          <m:t xml:space="preserve">𝟔</m:t>
                        </m:r>
                        <m:r>
                          <m:t xml:space="preserve">𝐛</m:t>
                        </m:r>
                        <m:r>
                          <m:t xml:space="preserve">−</m:t>
                        </m:r>
                        <m:r>
                          <m:t xml:space="preserve">𝟗</m:t>
                        </m:r>
                        <m:r>
                          <m:t xml:space="preserve">𝐜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𝟑</m:t>
                        </m:r>
                        <m:r>
                          <m:t xml:space="preserve">𝐛</m:t>
                        </m:r>
                        <m:r>
                          <m:t xml:space="preserve">−</m:t>
                        </m:r>
                        <m:r>
                          <m:t xml:space="preserve">𝟓</m:t>
                        </m:r>
                        <m:r>
                          <m:t xml:space="preserve">𝐚</m:t>
                        </m:r>
                        <m:r>
                          <m:t xml:space="preserve">+</m:t>
                        </m:r>
                        <m:r>
                          <m:t xml:space="preserve">𝟒</m:t>
                        </m:r>
                        <m:r>
                          <m:t xml:space="preserve">𝐜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TextovéPole 33"/>
              <p:cNvSpPr txBox="1"/>
              <p:nvPr/>
            </p:nvSpPr>
            <p:spPr>
              <a:xfrm>
                <a:off x="3888000" y="2700000"/>
                <a:ext cx="192312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𝟐</m:t>
                    </m:r>
                    <m:r>
                      <m:t xml:space="preserve">𝐚</m:t>
                    </m:r>
                    <m:r>
                      <m:t xml:space="preserve">+</m:t>
                    </m:r>
                    <m:r>
                      <m:t xml:space="preserve">𝟑</m:t>
                    </m:r>
                    <m:r>
                      <m:t xml:space="preserve">𝐛</m:t>
                    </m:r>
                    <m:r>
                      <m:t xml:space="preserve">−</m:t>
                    </m:r>
                    <m:r>
                      <m:t xml:space="preserve">𝟓</m:t>
                    </m:r>
                    <m:r>
                      <m:t xml:space="preserve">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TextovéPole 34"/>
              <p:cNvSpPr txBox="1"/>
              <p:nvPr/>
            </p:nvSpPr>
            <p:spPr>
              <a:xfrm>
                <a:off x="0" y="3060000"/>
                <a:ext cx="56250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𝟑</m:t>
                        </m:r>
                        <m:sSup>
                          <m:e>
                            <m:r>
                              <m:t xml:space="preserve">𝐫</m:t>
                            </m:r>
                          </m:e>
                          <m:sup>
                            <m:r>
                              <m:t xml:space="preserve">𝟑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𝟐</m:t>
                        </m:r>
                        <m:sSup>
                          <m:e>
                            <m:r>
                              <m:t xml:space="preserve">𝐫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𝟒</m:t>
                        </m:r>
                        <m:r>
                          <m:t xml:space="preserve">𝐫</m:t>
                        </m:r>
                        <m:r>
                          <m:t xml:space="preserve">−</m:t>
                        </m:r>
                        <m:r>
                          <m:t xml:space="preserve">𝟔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𝟑</m:t>
                        </m:r>
                        <m:sSup>
                          <m:e>
                            <m:r>
                              <m:t xml:space="preserve">𝐫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𝟓</m:t>
                        </m:r>
                        <m:r>
                          <m:t xml:space="preserve">𝐫</m:t>
                        </m:r>
                        <m:r>
                          <m:t xml:space="preserve">−</m:t>
                        </m:r>
                        <m:r>
                          <m:t xml:space="preserve">𝟕</m:t>
                        </m:r>
                        <m:sSup>
                          <m:e>
                            <m:r>
                              <m:t xml:space="preserve">𝐫</m:t>
                            </m:r>
                          </m:e>
                          <m:sup>
                            <m:r>
                              <m:t xml:space="preserve">𝟑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TextovéPole 35"/>
              <p:cNvSpPr txBox="1"/>
              <p:nvPr/>
            </p:nvSpPr>
            <p:spPr>
              <a:xfrm>
                <a:off x="4608000" y="3060000"/>
                <a:ext cx="2160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𝟒</m:t>
                    </m:r>
                    <m:sSup>
                      <m:e>
                        <m:r>
                          <m:t xml:space="preserve">𝐫</m:t>
                        </m:r>
                      </m:e>
                      <m:sup>
                        <m:r>
                          <m:t xml:space="preserve">𝟑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𝐫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𝐫</m:t>
                    </m:r>
                    <m:r>
                      <m:t xml:space="preserve">−</m:t>
                    </m:r>
                    <m:r>
                      <m:t xml:space="preserve">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TextovéPole 38"/>
              <p:cNvSpPr txBox="1"/>
              <p:nvPr/>
            </p:nvSpPr>
            <p:spPr>
              <a:xfrm>
                <a:off x="0" y="3420000"/>
                <a:ext cx="56250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𝟑</m:t>
                        </m:r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𝐲</m:t>
                        </m:r>
                        <m:r>
                          <m:t xml:space="preserve">−</m:t>
                        </m:r>
                        <m:r>
                          <m:t xml:space="preserve">𝟐</m:t>
                        </m:r>
                        <m:r>
                          <m:t xml:space="preserve">𝐱</m:t>
                        </m:r>
                        <m:sSup>
                          <m:e>
                            <m:r>
                              <m:t xml:space="preserve">𝐲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𝟒</m:t>
                        </m:r>
                        <m:r>
                          <m:t xml:space="preserve">𝐱𝐲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𝟔</m:t>
                        </m:r>
                        <m:sSup>
                          <m:e>
                            <m:r>
                              <m:t xml:space="preserve">𝐱𝐲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𝟓</m:t>
                        </m:r>
                        <m:r>
                          <m:t xml:space="preserve">𝐱𝐲</m:t>
                        </m:r>
                        <m:r>
                          <m:t xml:space="preserve">+</m:t>
                        </m:r>
                        <m:r>
                          <m:t xml:space="preserve">𝟕</m:t>
                        </m:r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𝐲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TextovéPole 39"/>
              <p:cNvSpPr txBox="1"/>
              <p:nvPr/>
            </p:nvSpPr>
            <p:spPr>
              <a:xfrm>
                <a:off x="4824000" y="3420000"/>
                <a:ext cx="2304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𝟏𝟎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𝐲</m:t>
                    </m:r>
                    <m:r>
                      <m:t xml:space="preserve">+</m:t>
                    </m:r>
                    <m:r>
                      <m:t xml:space="preserve">𝟒</m:t>
                    </m:r>
                    <m:r>
                      <m:t xml:space="preserve">𝐱</m:t>
                    </m:r>
                    <m:sSup>
                      <m:e>
                        <m:r>
                          <m:t xml:space="preserve">𝐲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𝐱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TextovéPole 40"/>
              <p:cNvSpPr txBox="1"/>
              <p:nvPr/>
            </p:nvSpPr>
            <p:spPr>
              <a:xfrm>
                <a:off x="0" y="3780000"/>
                <a:ext cx="7272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𝟖</m:t>
                        </m:r>
                        <m:sSup>
                          <m:e>
                            <m:r>
                              <m:t xml:space="preserve">𝐚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𝐛𝐜</m:t>
                        </m:r>
                        <m:r>
                          <m:t xml:space="preserve">−</m:t>
                        </m:r>
                        <m:r>
                          <m:t xml:space="preserve">𝟒</m:t>
                        </m:r>
                        <m:r>
                          <m:t xml:space="preserve">𝐚</m:t>
                        </m:r>
                        <m:sSup>
                          <m:e>
                            <m:r>
                              <m:t xml:space="preserve">𝐛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𝐜</m:t>
                        </m:r>
                        <m:r>
                          <m:t xml:space="preserve">+</m:t>
                        </m:r>
                        <m:r>
                          <m:t xml:space="preserve">𝐚𝐛𝐜</m:t>
                        </m:r>
                        <m:r>
                          <m:t xml:space="preserve">−</m:t>
                        </m:r>
                        <m:r>
                          <m:t xml:space="preserve">𝟓</m:t>
                        </m:r>
                        <m:r>
                          <m:t xml:space="preserve">𝐚𝐛</m:t>
                        </m:r>
                        <m:sSup>
                          <m:e>
                            <m:r>
                              <m:t xml:space="preserve">𝐜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𝐚𝐛𝐜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𝟑</m:t>
                        </m:r>
                        <m:r>
                          <m:t xml:space="preserve">𝐚𝐛𝐜</m:t>
                        </m:r>
                        <m:r>
                          <m:t xml:space="preserve">+</m:t>
                        </m:r>
                        <m:r>
                          <m:t xml:space="preserve">𝟐</m:t>
                        </m:r>
                        <m:sSup>
                          <m:e>
                            <m:r>
                              <m:t xml:space="preserve">𝐚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𝐛𝐜</m:t>
                        </m:r>
                        <m:r>
                          <m:t xml:space="preserve">−</m:t>
                        </m:r>
                        <m:r>
                          <m:t xml:space="preserve">𝟒</m:t>
                        </m:r>
                        <m:r>
                          <m:t xml:space="preserve">𝐚</m:t>
                        </m:r>
                        <m:sSup>
                          <m:e>
                            <m:r>
                              <m:t xml:space="preserve">𝐛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𝐜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TextovéPole 41"/>
              <p:cNvSpPr txBox="1"/>
              <p:nvPr/>
            </p:nvSpPr>
            <p:spPr>
              <a:xfrm>
                <a:off x="0" y="4140000"/>
                <a:ext cx="417168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𝟏𝟎</m:t>
                    </m:r>
                    <m:sSup>
                      <m:e>
                        <m:r>
                          <m:t xml:space="preserve">𝐚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𝐛𝐜</m:t>
                    </m:r>
                    <m:r>
                      <m:t xml:space="preserve">+</m:t>
                    </m:r>
                    <m:r>
                      <m:t xml:space="preserve">𝟖</m:t>
                    </m:r>
                    <m:r>
                      <m:t xml:space="preserve">𝐚</m:t>
                    </m:r>
                    <m:sSup>
                      <m:e>
                        <m:r>
                          <m:t xml:space="preserve">𝐛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𝐜</m:t>
                    </m:r>
                    <m:r>
                      <m:t xml:space="preserve">−</m:t>
                    </m:r>
                    <m:r>
                      <m:t xml:space="preserve">𝟒</m:t>
                    </m:r>
                    <m:r>
                      <m:t xml:space="preserve">𝐚𝐛</m:t>
                    </m:r>
                    <m:sSup>
                      <m:e>
                        <m:r>
                          <m:t xml:space="preserve">𝐜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𝟐</m:t>
                    </m:r>
                    <m:r>
                      <m:t xml:space="preserve">𝐚𝐛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TextovéPole 51"/>
              <p:cNvSpPr txBox="1"/>
              <p:nvPr/>
            </p:nvSpPr>
            <p:spPr>
              <a:xfrm>
                <a:off x="0" y="4500000"/>
                <a:ext cx="438804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𝟓</m:t>
                        </m:r>
                        <m:r>
                          <m:t xml:space="preserve">𝐦</m:t>
                        </m:r>
                        <m:r>
                          <m:t xml:space="preserve">+</m:t>
                        </m:r>
                        <m:r>
                          <m:t xml:space="preserve">𝟐</m:t>
                        </m:r>
                        <m:r>
                          <m:t xml:space="preserve">𝐧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𝐦</m:t>
                        </m:r>
                        <m:r>
                          <m:t xml:space="preserve">−</m:t>
                        </m:r>
                        <m:r>
                          <m:t xml:space="preserve">𝟑</m:t>
                        </m:r>
                        <m:r>
                          <m:t xml:space="preserve">𝐧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𝟑</m:t>
                        </m:r>
                        <m:r>
                          <m:t xml:space="preserve">𝐧</m:t>
                        </m:r>
                        <m:r>
                          <m:t xml:space="preserve">−</m:t>
                        </m:r>
                        <m:r>
                          <m:t xml:space="preserve">𝟐</m:t>
                        </m:r>
                        <m:r>
                          <m:t xml:space="preserve">𝐦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TextovéPole 52"/>
              <p:cNvSpPr txBox="1"/>
              <p:nvPr/>
            </p:nvSpPr>
            <p:spPr>
              <a:xfrm>
                <a:off x="4219560" y="4500000"/>
                <a:ext cx="192312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𝟐</m:t>
                    </m:r>
                    <m:r>
                      <m:t xml:space="preserve">𝐦</m:t>
                    </m:r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𝐧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8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3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92000" y="51480"/>
            <a:ext cx="8351640" cy="1096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66"/>
                </a:solidFill>
                <a:latin typeface="Tahoma"/>
              </a:rPr>
              <a:t>Odčítání a mnohočlen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ovéPole 76"/>
          <p:cNvSpPr/>
          <p:nvPr/>
        </p:nvSpPr>
        <p:spPr>
          <a:xfrm>
            <a:off x="0" y="134748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počtě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TextovéPole 21"/>
              <p:cNvSpPr txBox="1"/>
              <p:nvPr/>
            </p:nvSpPr>
            <p:spPr>
              <a:xfrm>
                <a:off x="0" y="1980000"/>
                <a:ext cx="133128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𝟓</m:t>
                    </m:r>
                    <m:r>
                      <m:t xml:space="preserve">𝐚</m:t>
                    </m:r>
                    <m:r>
                      <m:t xml:space="preserve">−</m:t>
                    </m:r>
                    <m:r>
                      <m:t xml:space="preserve">𝟐</m:t>
                    </m:r>
                    <m:r>
                      <m:t xml:space="preserve">𝐛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TextovéPole 22"/>
              <p:cNvSpPr txBox="1"/>
              <p:nvPr/>
            </p:nvSpPr>
            <p:spPr>
              <a:xfrm>
                <a:off x="0" y="2520000"/>
                <a:ext cx="133128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𝟓</m:t>
                    </m:r>
                    <m:r>
                      <m:t xml:space="preserve">𝐚</m:t>
                    </m:r>
                    <m:r>
                      <m:t xml:space="preserve">−</m:t>
                    </m:r>
                    <m:r>
                      <m:t xml:space="preserve">𝟐</m:t>
                    </m:r>
                    <m:r>
                      <m:t xml:space="preserve">𝐚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TextovéPole 23"/>
              <p:cNvSpPr txBox="1"/>
              <p:nvPr/>
            </p:nvSpPr>
            <p:spPr>
              <a:xfrm>
                <a:off x="0" y="3060000"/>
                <a:ext cx="147528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𝟓</m:t>
                    </m:r>
                    <m:r>
                      <m:t xml:space="preserve">𝐚</m:t>
                    </m:r>
                    <m:r>
                      <m:t xml:space="preserve">−</m:t>
                    </m:r>
                    <m:r>
                      <m:t xml:space="preserve">𝟐</m:t>
                    </m:r>
                    <m:sSup>
                      <m:e>
                        <m:r>
                          <m:t xml:space="preserve">𝐚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TextovéPole 24"/>
              <p:cNvSpPr txBox="1"/>
              <p:nvPr/>
            </p:nvSpPr>
            <p:spPr>
              <a:xfrm>
                <a:off x="0" y="3600000"/>
                <a:ext cx="147528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𝟓</m:t>
                    </m:r>
                    <m:sSup>
                      <m:e>
                        <m:r>
                          <m:t xml:space="preserve">𝐚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𝟐</m:t>
                    </m:r>
                    <m:sSup>
                      <m:e>
                        <m:r>
                          <m:t xml:space="preserve">𝐚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TextovéPole 1"/>
          <p:cNvSpPr/>
          <p:nvPr/>
        </p:nvSpPr>
        <p:spPr>
          <a:xfrm>
            <a:off x="-26280" y="4434840"/>
            <a:ext cx="9169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dčítat lze pouze ty členy, které mají stejné proměnné se stejným mocnitel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TextovéPole 26"/>
              <p:cNvSpPr txBox="1"/>
              <p:nvPr/>
            </p:nvSpPr>
            <p:spPr>
              <a:xfrm>
                <a:off x="1116000" y="1980000"/>
                <a:ext cx="115164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𝟓</m:t>
                    </m:r>
                    <m:r>
                      <m:t xml:space="preserve">𝐚</m:t>
                    </m:r>
                    <m:r>
                      <m:t xml:space="preserve">−</m:t>
                    </m:r>
                    <m:r>
                      <m:t xml:space="preserve">𝟐</m:t>
                    </m:r>
                    <m:r>
                      <m:t xml:space="preserve">𝐛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TextovéPole 27"/>
          <p:cNvSpPr/>
          <p:nvPr/>
        </p:nvSpPr>
        <p:spPr>
          <a:xfrm>
            <a:off x="2340000" y="1980000"/>
            <a:ext cx="19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odečíst nel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TextovéPole 28"/>
              <p:cNvSpPr txBox="1"/>
              <p:nvPr/>
            </p:nvSpPr>
            <p:spPr>
              <a:xfrm>
                <a:off x="1116000" y="2520000"/>
                <a:ext cx="115164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𝟑</m:t>
                    </m:r>
                    <m:r>
                      <m:t xml:space="preserve">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TextovéPole 29"/>
              <p:cNvSpPr txBox="1"/>
              <p:nvPr/>
            </p:nvSpPr>
            <p:spPr>
              <a:xfrm>
                <a:off x="1188000" y="3060000"/>
                <a:ext cx="117036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𝟓</m:t>
                    </m:r>
                    <m:r>
                      <m:t xml:space="preserve">𝐚</m:t>
                    </m:r>
                    <m:r>
                      <m:t xml:space="preserve">−</m:t>
                    </m:r>
                    <m:r>
                      <m:t xml:space="preserve">𝟐</m:t>
                    </m:r>
                    <m:sSup>
                      <m:e>
                        <m:r>
                          <m:t xml:space="preserve">𝐚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TextovéPole 30"/>
          <p:cNvSpPr/>
          <p:nvPr/>
        </p:nvSpPr>
        <p:spPr>
          <a:xfrm>
            <a:off x="2340000" y="3060000"/>
            <a:ext cx="201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odečíst nel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TextovéPole 31"/>
              <p:cNvSpPr txBox="1"/>
              <p:nvPr/>
            </p:nvSpPr>
            <p:spPr>
              <a:xfrm>
                <a:off x="1369080" y="3600000"/>
                <a:ext cx="115164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𝟑</m:t>
                    </m:r>
                    <m:sSup>
                      <m:e>
                        <m:r>
                          <m:t xml:space="preserve">𝐚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TextovéPole 32"/>
              <p:cNvSpPr txBox="1"/>
              <p:nvPr/>
            </p:nvSpPr>
            <p:spPr>
              <a:xfrm>
                <a:off x="5040000" y="1980000"/>
                <a:ext cx="133128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𝟓</m:t>
                    </m:r>
                    <m:r>
                      <m:t xml:space="preserve">𝐱</m:t>
                    </m:r>
                    <m:r>
                      <m:t xml:space="preserve">−</m:t>
                    </m:r>
                    <m:r>
                      <m:t xml:space="preserve">𝐱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TextovéPole 33"/>
              <p:cNvSpPr txBox="1"/>
              <p:nvPr/>
            </p:nvSpPr>
            <p:spPr>
              <a:xfrm>
                <a:off x="6156000" y="1980000"/>
                <a:ext cx="115164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𝟒</m:t>
                    </m:r>
                    <m:r>
                      <m:t xml:space="preserve">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TextovéPole 34"/>
              <p:cNvSpPr txBox="1"/>
              <p:nvPr/>
            </p:nvSpPr>
            <p:spPr>
              <a:xfrm>
                <a:off x="5040000" y="2520000"/>
                <a:ext cx="1800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𝟑</m:t>
                    </m:r>
                    <m:sSup>
                      <m:e>
                        <m:r>
                          <m:t xml:space="preserve">𝐩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𝟖</m:t>
                    </m:r>
                    <m:sSup>
                      <m:e>
                        <m:r>
                          <m:t xml:space="preserve">𝐩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TextovéPole 35"/>
              <p:cNvSpPr txBox="1"/>
              <p:nvPr/>
            </p:nvSpPr>
            <p:spPr>
              <a:xfrm>
                <a:off x="6660360" y="2520000"/>
                <a:ext cx="71964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𝟓</m:t>
                    </m:r>
                    <m:sSup>
                      <m:e>
                        <m:r>
                          <m:t xml:space="preserve">𝐩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TextovéPole 38"/>
              <p:cNvSpPr txBox="1"/>
              <p:nvPr/>
            </p:nvSpPr>
            <p:spPr>
              <a:xfrm>
                <a:off x="5040000" y="3060000"/>
                <a:ext cx="196164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𝟕</m:t>
                    </m:r>
                    <m:r>
                      <m:t xml:space="preserve">𝐛</m:t>
                    </m:r>
                    <m:r>
                      <m:t xml:space="preserve">−</m:t>
                    </m:r>
                    <m:r>
                      <m:t xml:space="preserve">𝟒</m:t>
                    </m:r>
                    <m:r>
                      <m:t xml:space="preserve">𝐛</m:t>
                    </m:r>
                    <m:r>
                      <m:t xml:space="preserve">−</m:t>
                    </m:r>
                    <m:r>
                      <m:t xml:space="preserve">𝟓</m:t>
                    </m:r>
                    <m:r>
                      <m:t xml:space="preserve">𝐛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TextovéPole 39"/>
              <p:cNvSpPr txBox="1"/>
              <p:nvPr/>
            </p:nvSpPr>
            <p:spPr>
              <a:xfrm>
                <a:off x="6839640" y="3060000"/>
                <a:ext cx="75636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𝟐</m:t>
                    </m:r>
                    <m:r>
                      <m:t xml:space="preserve">𝐛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TextovéPole 40"/>
              <p:cNvSpPr txBox="1"/>
              <p:nvPr/>
            </p:nvSpPr>
            <p:spPr>
              <a:xfrm>
                <a:off x="5040000" y="3600000"/>
                <a:ext cx="2376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𝟑</m:t>
                    </m:r>
                    <m:sSup>
                      <m:e>
                        <m:r>
                          <m:t xml:space="preserve">𝐬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𝟒</m:t>
                    </m:r>
                    <m:sSup>
                      <m:e>
                        <m:r>
                          <m:t xml:space="preserve">𝐬</m:t>
                        </m:r>
                      </m:e>
                      <m:sup>
                        <m:r>
                          <m:t xml:space="preserve">𝟑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𝐬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TextovéPole 41"/>
              <p:cNvSpPr txBox="1"/>
              <p:nvPr/>
            </p:nvSpPr>
            <p:spPr>
              <a:xfrm>
                <a:off x="7128000" y="3600000"/>
                <a:ext cx="1584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𝟐</m:t>
                    </m:r>
                    <m:sSup>
                      <m:e>
                        <m:r>
                          <m:t xml:space="preserve">𝐬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𝟒</m:t>
                    </m:r>
                    <m:sSup>
                      <m:e>
                        <m:r>
                          <m:t xml:space="preserve">𝐬</m:t>
                        </m:r>
                      </m:e>
                      <m:sup>
                        <m:r>
                          <m:t xml:space="preserve">𝟑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92000" y="51480"/>
            <a:ext cx="8351640" cy="1096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66"/>
                </a:solidFill>
                <a:latin typeface="Tahoma"/>
              </a:rPr>
              <a:t>Odčítání a mnohočlen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ovéPole 76"/>
          <p:cNvSpPr/>
          <p:nvPr/>
        </p:nvSpPr>
        <p:spPr>
          <a:xfrm>
            <a:off x="0" y="1410480"/>
            <a:ext cx="59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dečtěte mnohočle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TextovéPole 21"/>
              <p:cNvSpPr txBox="1"/>
              <p:nvPr/>
            </p:nvSpPr>
            <p:spPr>
              <a:xfrm>
                <a:off x="0" y="1980000"/>
                <a:ext cx="169128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𝟐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𝟓</m:t>
                    </m:r>
                    <m:r>
                      <m:t xml:space="preserve">𝐱</m:t>
                    </m:r>
                    <m:r>
                      <m:t xml:space="preserve">−</m:t>
                    </m:r>
                    <m:r>
                      <m:t xml:space="preserve">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délník 2"/>
              <p:cNvSpPr txBox="1"/>
              <p:nvPr/>
            </p:nvSpPr>
            <p:spPr>
              <a:xfrm>
                <a:off x="1619640" y="1980000"/>
                <a:ext cx="37512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𝐚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délník 3"/>
              <p:cNvSpPr txBox="1"/>
              <p:nvPr/>
            </p:nvSpPr>
            <p:spPr>
              <a:xfrm>
                <a:off x="2160000" y="1980000"/>
                <a:ext cx="168156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𝟒</m:t>
                    </m:r>
                    <m:r>
                      <m:t xml:space="preserve">−</m:t>
                    </m:r>
                    <m:r>
                      <m:t xml:space="preserve">𝟐</m:t>
                    </m:r>
                    <m:r>
                      <m:t xml:space="preserve">𝐱</m:t>
                    </m:r>
                    <m:r>
                      <m:t xml:space="preserve">+</m:t>
                    </m:r>
                    <m:r>
                      <m:t xml:space="preserve">𝟑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délník 36"/>
              <p:cNvSpPr txBox="1"/>
              <p:nvPr/>
            </p:nvSpPr>
            <p:spPr>
              <a:xfrm>
                <a:off x="3780000" y="1980000"/>
                <a:ext cx="44892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TextovéPole 37"/>
              <p:cNvSpPr txBox="1"/>
              <p:nvPr/>
            </p:nvSpPr>
            <p:spPr>
              <a:xfrm>
                <a:off x="4320000" y="1980000"/>
                <a:ext cx="39960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𝟐</m:t>
                        </m:r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𝟓</m:t>
                        </m:r>
                        <m:r>
                          <m:t xml:space="preserve">𝐱</m:t>
                        </m:r>
                        <m:r>
                          <m:t xml:space="preserve">−</m:t>
                        </m:r>
                        <m:r>
                          <m:t xml:space="preserve">𝟕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𝟒</m:t>
                        </m:r>
                        <m:r>
                          <m:t xml:space="preserve">−</m:t>
                        </m:r>
                        <m:r>
                          <m:t xml:space="preserve">𝟐</m:t>
                        </m:r>
                        <m:r>
                          <m:t xml:space="preserve">𝐱</m:t>
                        </m:r>
                        <m:r>
                          <m:t xml:space="preserve">+</m:t>
                        </m:r>
                        <m:r>
                          <m:t xml:space="preserve">𝟑</m:t>
                        </m:r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TextovéPole 4"/>
          <p:cNvSpPr/>
          <p:nvPr/>
        </p:nvSpPr>
        <p:spPr>
          <a:xfrm>
            <a:off x="0" y="2520000"/>
            <a:ext cx="31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. Odstraníme závorky *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ovéPole 42"/>
          <p:cNvSpPr/>
          <p:nvPr/>
        </p:nvSpPr>
        <p:spPr>
          <a:xfrm>
            <a:off x="6191640" y="1275480"/>
            <a:ext cx="295200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pokud je před závorkou - </a:t>
            </a:r>
            <a:br>
              <a:rPr sz="1400"/>
            </a:b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   opíšeme vše co je v závorce </a:t>
            </a:r>
            <a:br>
              <a:rPr sz="1400"/>
            </a:b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   s opačnými znamén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TextovéPole 43"/>
              <p:cNvSpPr txBox="1"/>
              <p:nvPr/>
            </p:nvSpPr>
            <p:spPr>
              <a:xfrm>
                <a:off x="4320000" y="3780000"/>
                <a:ext cx="481068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𝟐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𝟑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𝟓</m:t>
                    </m:r>
                    <m:r>
                      <m:t xml:space="preserve">𝐱</m:t>
                    </m:r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𝐱</m:t>
                    </m:r>
                    <m:r>
                      <m:t xml:space="preserve">−</m:t>
                    </m:r>
                    <m:r>
                      <m:t xml:space="preserve">𝟕</m:t>
                    </m:r>
                    <m:r>
                      <m:t xml:space="preserve">−</m:t>
                    </m:r>
                    <m:r>
                      <m:t xml:space="preserve">𝟒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TextovéPole 44"/>
          <p:cNvSpPr/>
          <p:nvPr/>
        </p:nvSpPr>
        <p:spPr>
          <a:xfrm>
            <a:off x="0" y="3060000"/>
            <a:ext cx="442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. Určíme členy, ve kterých jsou stejné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proměnné se stejnými mocnite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TextovéPole 45"/>
              <p:cNvSpPr txBox="1"/>
              <p:nvPr/>
            </p:nvSpPr>
            <p:spPr>
              <a:xfrm>
                <a:off x="4332960" y="3240000"/>
                <a:ext cx="481068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−</m:t>
                    </m:r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délník 5"/>
              <p:cNvSpPr txBox="1"/>
              <p:nvPr/>
            </p:nvSpPr>
            <p:spPr>
              <a:xfrm>
                <a:off x="4572000" y="3240000"/>
                <a:ext cx="630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𝟐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délník 6"/>
              <p:cNvSpPr txBox="1"/>
              <p:nvPr/>
            </p:nvSpPr>
            <p:spPr>
              <a:xfrm>
                <a:off x="5184000" y="3240000"/>
                <a:ext cx="51948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𝟓</m:t>
                    </m:r>
                    <m:r>
                      <m:t xml:space="preserve">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délník 7"/>
              <p:cNvSpPr txBox="1"/>
              <p:nvPr/>
            </p:nvSpPr>
            <p:spPr>
              <a:xfrm>
                <a:off x="5688000" y="3240000"/>
                <a:ext cx="38628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délník 8"/>
              <p:cNvSpPr txBox="1"/>
              <p:nvPr/>
            </p:nvSpPr>
            <p:spPr>
              <a:xfrm>
                <a:off x="6120000" y="3240000"/>
                <a:ext cx="38628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délník 9"/>
              <p:cNvSpPr txBox="1"/>
              <p:nvPr/>
            </p:nvSpPr>
            <p:spPr>
              <a:xfrm>
                <a:off x="6552000" y="3240000"/>
                <a:ext cx="50796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𝟐</m:t>
                    </m:r>
                    <m:r>
                      <m:t xml:space="preserve">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délník 10"/>
              <p:cNvSpPr txBox="1"/>
              <p:nvPr/>
            </p:nvSpPr>
            <p:spPr>
              <a:xfrm>
                <a:off x="7092000" y="3240000"/>
                <a:ext cx="630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𝟑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8" name="TextovéPole 46"/>
          <p:cNvSpPr/>
          <p:nvPr/>
        </p:nvSpPr>
        <p:spPr>
          <a:xfrm>
            <a:off x="0" y="3780000"/>
            <a:ext cx="4007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. Tyto členy sečteme (odečtem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evá složená závorka 11"/>
          <p:cNvSpPr/>
          <p:nvPr/>
        </p:nvSpPr>
        <p:spPr>
          <a:xfrm rot="16200000">
            <a:off x="5004000" y="3816360"/>
            <a:ext cx="287640" cy="935640"/>
          </a:xfrm>
          <a:prstGeom prst="leftBrace">
            <a:avLst>
              <a:gd name="adj1" fmla="val 8333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evá složená závorka 47"/>
          <p:cNvSpPr/>
          <p:nvPr/>
        </p:nvSpPr>
        <p:spPr>
          <a:xfrm rot="16200000">
            <a:off x="6228000" y="3845520"/>
            <a:ext cx="287640" cy="863640"/>
          </a:xfrm>
          <a:prstGeom prst="leftBrace">
            <a:avLst>
              <a:gd name="adj1" fmla="val 8333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evá složená závorka 48"/>
          <p:cNvSpPr/>
          <p:nvPr/>
        </p:nvSpPr>
        <p:spPr>
          <a:xfrm rot="16200000">
            <a:off x="7147080" y="4013280"/>
            <a:ext cx="287640" cy="503640"/>
          </a:xfrm>
          <a:prstGeom prst="leftBrace">
            <a:avLst>
              <a:gd name="adj1" fmla="val 8333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TextovéPole 49"/>
              <p:cNvSpPr txBox="1"/>
              <p:nvPr/>
            </p:nvSpPr>
            <p:spPr>
              <a:xfrm>
                <a:off x="4320000" y="2520000"/>
                <a:ext cx="3708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𝟐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𝟓</m:t>
                    </m:r>
                    <m:r>
                      <m:t xml:space="preserve">𝐱</m:t>
                    </m:r>
                    <m:r>
                      <m:t xml:space="preserve">−</m:t>
                    </m:r>
                    <m:r>
                      <m:t xml:space="preserve">𝟕</m:t>
                    </m:r>
                    <m:r>
                      <m:t xml:space="preserve">−</m:t>
                    </m:r>
                    <m:r>
                      <m:t xml:space="preserve">𝟒</m:t>
                    </m:r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𝐱</m:t>
                    </m:r>
                    <m:r>
                      <m:t xml:space="preserve">−</m:t>
                    </m:r>
                    <m:r>
                      <m:t xml:space="preserve">𝟑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TextovéPole 50"/>
              <p:cNvSpPr txBox="1"/>
              <p:nvPr/>
            </p:nvSpPr>
            <p:spPr>
              <a:xfrm>
                <a:off x="4320000" y="4500000"/>
                <a:ext cx="481068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𝟕</m:t>
                    </m:r>
                    <m:r>
                      <m:t xml:space="preserve">𝐱</m:t>
                    </m:r>
                    <m:r>
                      <m:t xml:space="preserve">−</m:t>
                    </m:r>
                    <m:r>
                      <m:t xml:space="preserve">𝟏𝟏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5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5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5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5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5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b4eb5"/>
                                      </p:to>
                                    </p:animClr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b4eb5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65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b4eb5"/>
                                      </p:to>
                                    </p:animClr>
                                    <p:animClr clrSpc="rgb">
                                      <p:cBhvr>
                                        <p:cTn id="76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b4eb5"/>
                                      </p:to>
                                    </p:animClr>
                                    <p:set>
                                      <p:cBhvr>
                                        <p:cTn id="77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7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7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8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92000" y="51480"/>
            <a:ext cx="8351640" cy="1096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66"/>
                </a:solidFill>
                <a:latin typeface="Tahoma"/>
              </a:rPr>
              <a:t>Odčítání a mnohočlen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ovéPole 76"/>
          <p:cNvSpPr/>
          <p:nvPr/>
        </p:nvSpPr>
        <p:spPr>
          <a:xfrm>
            <a:off x="0" y="1410480"/>
            <a:ext cx="59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počítej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TextovéPole 21"/>
              <p:cNvSpPr txBox="1"/>
              <p:nvPr/>
            </p:nvSpPr>
            <p:spPr>
              <a:xfrm>
                <a:off x="0" y="1980000"/>
                <a:ext cx="43556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𝟓</m:t>
                        </m:r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𝟐</m:t>
                        </m:r>
                        <m:r>
                          <m:t xml:space="preserve">𝐱</m:t>
                        </m:r>
                        <m:r>
                          <m:t xml:space="preserve">−</m:t>
                        </m:r>
                        <m:r>
                          <m:t xml:space="preserve">𝟕</m:t>
                        </m:r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𝟑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𝟒</m:t>
                        </m:r>
                        <m:r>
                          <m:t xml:space="preserve">𝐱</m:t>
                        </m:r>
                        <m:r>
                          <m:t xml:space="preserve">−</m:t>
                        </m:r>
                        <m:r>
                          <m:t xml:space="preserve">𝟐</m:t>
                        </m:r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𝟑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TextovéPole 25"/>
              <p:cNvSpPr txBox="1"/>
              <p:nvPr/>
            </p:nvSpPr>
            <p:spPr>
              <a:xfrm>
                <a:off x="4140000" y="1980000"/>
                <a:ext cx="3816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𝟓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𝟐</m:t>
                    </m:r>
                    <m:r>
                      <m:t xml:space="preserve">𝐱</m:t>
                    </m:r>
                    <m:r>
                      <m:t xml:space="preserve">−</m:t>
                    </m:r>
                    <m:r>
                      <m:t xml:space="preserve">𝟕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𝟑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𝟒</m:t>
                    </m:r>
                    <m:r>
                      <m:t xml:space="preserve">𝐱</m:t>
                    </m:r>
                    <m:r>
                      <m:t xml:space="preserve">+</m:t>
                    </m:r>
                    <m:r>
                      <m:t xml:space="preserve">𝟐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𝟑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Oblouk 13"/>
          <p:cNvSpPr/>
          <p:nvPr/>
        </p:nvSpPr>
        <p:spPr>
          <a:xfrm rot="5400000">
            <a:off x="5583600" y="846360"/>
            <a:ext cx="596880" cy="2996640"/>
          </a:xfrm>
          <a:prstGeom prst="arc">
            <a:avLst>
              <a:gd name="adj1" fmla="val 16200000"/>
              <a:gd name="adj2" fmla="val 5392958"/>
            </a:avLst>
          </a:prstGeom>
          <a:noFill/>
          <a:ln w="9525">
            <a:solidFill>
              <a:srgbClr val="00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louk 29"/>
          <p:cNvSpPr/>
          <p:nvPr/>
        </p:nvSpPr>
        <p:spPr>
          <a:xfrm rot="5400000">
            <a:off x="5423400" y="1622160"/>
            <a:ext cx="412920" cy="1340640"/>
          </a:xfrm>
          <a:prstGeom prst="arc">
            <a:avLst>
              <a:gd name="adj1" fmla="val 16200000"/>
              <a:gd name="adj2" fmla="val 5392958"/>
            </a:avLst>
          </a:prstGeom>
          <a:noFill/>
          <a:ln w="9525">
            <a:solidFill>
              <a:srgbClr val="00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louk 30"/>
          <p:cNvSpPr/>
          <p:nvPr/>
        </p:nvSpPr>
        <p:spPr>
          <a:xfrm rot="5400000">
            <a:off x="5990400" y="1737360"/>
            <a:ext cx="412920" cy="1215000"/>
          </a:xfrm>
          <a:prstGeom prst="arc">
            <a:avLst>
              <a:gd name="adj1" fmla="val 16200000"/>
              <a:gd name="adj2" fmla="val 5392958"/>
            </a:avLst>
          </a:prstGeom>
          <a:noFill/>
          <a:ln w="9525">
            <a:solidFill>
              <a:srgbClr val="00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TextovéPole 31"/>
              <p:cNvSpPr txBox="1"/>
              <p:nvPr/>
            </p:nvSpPr>
            <p:spPr>
              <a:xfrm>
                <a:off x="0" y="2340000"/>
                <a:ext cx="2304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𝟓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𝟑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𝟒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𝟔</m:t>
                    </m:r>
                    <m:r>
                      <m:t xml:space="preserve">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TextovéPole 32"/>
              <p:cNvSpPr txBox="1"/>
              <p:nvPr/>
            </p:nvSpPr>
            <p:spPr>
              <a:xfrm>
                <a:off x="0" y="2700000"/>
                <a:ext cx="414324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𝟑</m:t>
                        </m:r>
                        <m:r>
                          <m:t xml:space="preserve">𝐚</m:t>
                        </m:r>
                        <m:r>
                          <m:t xml:space="preserve">+</m:t>
                        </m:r>
                        <m:r>
                          <m:t xml:space="preserve">𝟔</m:t>
                        </m:r>
                        <m:r>
                          <m:t xml:space="preserve">𝐛</m:t>
                        </m:r>
                        <m:r>
                          <m:t xml:space="preserve">−</m:t>
                        </m:r>
                        <m:r>
                          <m:t xml:space="preserve">𝟗</m:t>
                        </m:r>
                        <m:r>
                          <m:t xml:space="preserve">𝐜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𝟑</m:t>
                        </m:r>
                        <m:r>
                          <m:t xml:space="preserve">𝐛</m:t>
                        </m:r>
                        <m:r>
                          <m:t xml:space="preserve">−</m:t>
                        </m:r>
                        <m:r>
                          <m:t xml:space="preserve">𝟓</m:t>
                        </m:r>
                        <m:r>
                          <m:t xml:space="preserve">𝐚</m:t>
                        </m:r>
                        <m:r>
                          <m:t xml:space="preserve">+</m:t>
                        </m:r>
                        <m:r>
                          <m:t xml:space="preserve">𝟒</m:t>
                        </m:r>
                        <m:r>
                          <m:t xml:space="preserve">𝐜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TextovéPole 33"/>
              <p:cNvSpPr txBox="1"/>
              <p:nvPr/>
            </p:nvSpPr>
            <p:spPr>
              <a:xfrm>
                <a:off x="3888000" y="2700000"/>
                <a:ext cx="192312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𝟖</m:t>
                    </m:r>
                    <m:r>
                      <m:t xml:space="preserve">𝐚</m:t>
                    </m:r>
                    <m:r>
                      <m:t xml:space="preserve">+</m:t>
                    </m:r>
                    <m:r>
                      <m:t xml:space="preserve">𝟗</m:t>
                    </m:r>
                    <m:r>
                      <m:t xml:space="preserve">𝐛</m:t>
                    </m:r>
                    <m:r>
                      <m:t xml:space="preserve">−</m:t>
                    </m:r>
                    <m:r>
                      <m:t xml:space="preserve">𝟏𝟑</m:t>
                    </m:r>
                    <m:r>
                      <m:t xml:space="preserve">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TextovéPole 34"/>
              <p:cNvSpPr txBox="1"/>
              <p:nvPr/>
            </p:nvSpPr>
            <p:spPr>
              <a:xfrm>
                <a:off x="0" y="3060000"/>
                <a:ext cx="56250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𝟑</m:t>
                        </m:r>
                        <m:sSup>
                          <m:e>
                            <m:r>
                              <m:t xml:space="preserve">𝐫</m:t>
                            </m:r>
                          </m:e>
                          <m:sup>
                            <m:r>
                              <m:t xml:space="preserve">𝟑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𝟐</m:t>
                        </m:r>
                        <m:sSup>
                          <m:e>
                            <m:r>
                              <m:t xml:space="preserve">𝐫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𝟒</m:t>
                        </m:r>
                        <m:r>
                          <m:t xml:space="preserve">𝐫</m:t>
                        </m:r>
                        <m:r>
                          <m:t xml:space="preserve">−</m:t>
                        </m:r>
                        <m:r>
                          <m:t xml:space="preserve">𝟔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𝟑</m:t>
                        </m:r>
                        <m:sSup>
                          <m:e>
                            <m:r>
                              <m:t xml:space="preserve">𝐫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𝟓</m:t>
                        </m:r>
                        <m:r>
                          <m:t xml:space="preserve">𝐫</m:t>
                        </m:r>
                        <m:r>
                          <m:t xml:space="preserve">−</m:t>
                        </m:r>
                        <m:r>
                          <m:t xml:space="preserve">𝟕</m:t>
                        </m:r>
                        <m:sSup>
                          <m:e>
                            <m:r>
                              <m:t xml:space="preserve">𝐫</m:t>
                            </m:r>
                          </m:e>
                          <m:sup>
                            <m:r>
                              <m:t xml:space="preserve">𝟑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TextovéPole 35"/>
              <p:cNvSpPr txBox="1"/>
              <p:nvPr/>
            </p:nvSpPr>
            <p:spPr>
              <a:xfrm>
                <a:off x="4608000" y="3060000"/>
                <a:ext cx="2520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𝟏𝟎</m:t>
                    </m:r>
                    <m:sSup>
                      <m:e>
                        <m:r>
                          <m:t xml:space="preserve">𝐫</m:t>
                        </m:r>
                      </m:e>
                      <m:sup>
                        <m:r>
                          <m:t xml:space="preserve">𝟑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𝟓</m:t>
                    </m:r>
                    <m:sSup>
                      <m:e>
                        <m:r>
                          <m:t xml:space="preserve">𝐫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𝟗</m:t>
                    </m:r>
                    <m:r>
                      <m:t xml:space="preserve">𝐫</m:t>
                    </m:r>
                    <m:r>
                      <m:t xml:space="preserve">−</m:t>
                    </m:r>
                    <m:r>
                      <m:t xml:space="preserve">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TextovéPole 38"/>
              <p:cNvSpPr txBox="1"/>
              <p:nvPr/>
            </p:nvSpPr>
            <p:spPr>
              <a:xfrm>
                <a:off x="0" y="3420000"/>
                <a:ext cx="56250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𝟑</m:t>
                        </m:r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𝐲</m:t>
                        </m:r>
                        <m:r>
                          <m:t xml:space="preserve">−</m:t>
                        </m:r>
                        <m:r>
                          <m:t xml:space="preserve">𝟐</m:t>
                        </m:r>
                        <m:r>
                          <m:t xml:space="preserve">𝐱</m:t>
                        </m:r>
                        <m:sSup>
                          <m:e>
                            <m:r>
                              <m:t xml:space="preserve">𝐲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𝟒</m:t>
                        </m:r>
                        <m:r>
                          <m:t xml:space="preserve">𝐱𝐲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𝟔</m:t>
                        </m:r>
                        <m:sSup>
                          <m:e>
                            <m:r>
                              <m:t xml:space="preserve">𝐱𝐲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𝟓</m:t>
                        </m:r>
                        <m:r>
                          <m:t xml:space="preserve">𝐱𝐲</m:t>
                        </m:r>
                        <m:r>
                          <m:t xml:space="preserve">+</m:t>
                        </m:r>
                        <m:r>
                          <m:t xml:space="preserve">𝟕</m:t>
                        </m:r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𝐲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TextovéPole 39"/>
              <p:cNvSpPr txBox="1"/>
              <p:nvPr/>
            </p:nvSpPr>
            <p:spPr>
              <a:xfrm>
                <a:off x="4824000" y="3420000"/>
                <a:ext cx="2304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𝟒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𝐲</m:t>
                    </m:r>
                    <m:r>
                      <m:t xml:space="preserve">−</m:t>
                    </m:r>
                    <m:r>
                      <m:t xml:space="preserve">𝟖</m:t>
                    </m:r>
                    <m:r>
                      <m:t xml:space="preserve">𝐱</m:t>
                    </m:r>
                    <m:sSup>
                      <m:e>
                        <m:r>
                          <m:t xml:space="preserve">𝐲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𝟗</m:t>
                    </m:r>
                    <m:r>
                      <m:t xml:space="preserve">𝐱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TextovéPole 40"/>
              <p:cNvSpPr txBox="1"/>
              <p:nvPr/>
            </p:nvSpPr>
            <p:spPr>
              <a:xfrm>
                <a:off x="0" y="3780000"/>
                <a:ext cx="7272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𝟖</m:t>
                        </m:r>
                        <m:sSup>
                          <m:e>
                            <m:r>
                              <m:t xml:space="preserve">𝐚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𝐛𝐜</m:t>
                        </m:r>
                        <m:r>
                          <m:t xml:space="preserve">−</m:t>
                        </m:r>
                        <m:r>
                          <m:t xml:space="preserve">𝟒</m:t>
                        </m:r>
                        <m:r>
                          <m:t xml:space="preserve">𝐚</m:t>
                        </m:r>
                        <m:sSup>
                          <m:e>
                            <m:r>
                              <m:t xml:space="preserve">𝐛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𝐜</m:t>
                        </m:r>
                        <m:r>
                          <m:t xml:space="preserve">+</m:t>
                        </m:r>
                        <m:r>
                          <m:t xml:space="preserve">𝐚𝐛𝐜</m:t>
                        </m:r>
                        <m:r>
                          <m:t xml:space="preserve">−</m:t>
                        </m:r>
                        <m:r>
                          <m:t xml:space="preserve">𝟓</m:t>
                        </m:r>
                        <m:r>
                          <m:t xml:space="preserve">𝐚𝐛</m:t>
                        </m:r>
                        <m:sSup>
                          <m:e>
                            <m:r>
                              <m:t xml:space="preserve">𝐜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𝐚𝐛𝐜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𝟑</m:t>
                        </m:r>
                        <m:r>
                          <m:t xml:space="preserve">𝐚𝐛𝐜</m:t>
                        </m:r>
                        <m:r>
                          <m:t xml:space="preserve">+</m:t>
                        </m:r>
                        <m:r>
                          <m:t xml:space="preserve">𝟐</m:t>
                        </m:r>
                        <m:sSup>
                          <m:e>
                            <m:r>
                              <m:t xml:space="preserve">𝐚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𝐛𝐜</m:t>
                        </m:r>
                        <m:r>
                          <m:t xml:space="preserve">−</m:t>
                        </m:r>
                        <m:r>
                          <m:t xml:space="preserve">𝟒</m:t>
                        </m:r>
                        <m:r>
                          <m:t xml:space="preserve">𝐚</m:t>
                        </m:r>
                        <m:sSup>
                          <m:e>
                            <m:r>
                              <m:t xml:space="preserve">𝐛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𝐜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TextovéPole 41"/>
              <p:cNvSpPr txBox="1"/>
              <p:nvPr/>
            </p:nvSpPr>
            <p:spPr>
              <a:xfrm>
                <a:off x="0" y="4140000"/>
                <a:ext cx="281232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𝟔</m:t>
                    </m:r>
                    <m:sSup>
                      <m:e>
                        <m:r>
                          <m:t xml:space="preserve">𝐚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𝐛𝐜</m:t>
                    </m:r>
                    <m:r>
                      <m:t xml:space="preserve">−</m:t>
                    </m:r>
                    <m:r>
                      <m:t xml:space="preserve">𝟔</m:t>
                    </m:r>
                    <m:r>
                      <m:t xml:space="preserve">𝐚𝐛</m:t>
                    </m:r>
                    <m:sSup>
                      <m:e>
                        <m:r>
                          <m:t xml:space="preserve">𝐜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𝟒</m:t>
                    </m:r>
                    <m:r>
                      <m:t xml:space="preserve">𝐚𝐛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TextovéPole 51"/>
              <p:cNvSpPr txBox="1"/>
              <p:nvPr/>
            </p:nvSpPr>
            <p:spPr>
              <a:xfrm>
                <a:off x="0" y="4500000"/>
                <a:ext cx="438804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𝟓</m:t>
                        </m:r>
                        <m:r>
                          <m:t xml:space="preserve">𝐦</m:t>
                        </m:r>
                        <m:r>
                          <m:t xml:space="preserve">+</m:t>
                        </m:r>
                        <m:r>
                          <m:t xml:space="preserve">𝟐</m:t>
                        </m:r>
                        <m:r>
                          <m:t xml:space="preserve">𝐧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𝐦</m:t>
                        </m:r>
                        <m:r>
                          <m:t xml:space="preserve">−</m:t>
                        </m:r>
                        <m:r>
                          <m:t xml:space="preserve">𝟑</m:t>
                        </m:r>
                        <m:r>
                          <m:t xml:space="preserve">𝐧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𝟑</m:t>
                        </m:r>
                        <m:r>
                          <m:t xml:space="preserve">𝐧</m:t>
                        </m:r>
                        <m:r>
                          <m:t xml:space="preserve">−</m:t>
                        </m:r>
                        <m:r>
                          <m:t xml:space="preserve">𝟐</m:t>
                        </m:r>
                        <m:r>
                          <m:t xml:space="preserve">𝐦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TextovéPole 52"/>
              <p:cNvSpPr txBox="1"/>
              <p:nvPr/>
            </p:nvSpPr>
            <p:spPr>
              <a:xfrm>
                <a:off x="4219560" y="4500000"/>
                <a:ext cx="192312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𝟖</m:t>
                    </m:r>
                    <m:r>
                      <m:t xml:space="preserve">𝐦</m:t>
                    </m:r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𝐧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6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1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6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92000" y="51480"/>
            <a:ext cx="8351640" cy="1096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66"/>
                </a:solidFill>
                <a:latin typeface="Tahoma"/>
              </a:rPr>
              <a:t>Sčítání a odčítání a mnohočlen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ovéPole 76"/>
          <p:cNvSpPr/>
          <p:nvPr/>
        </p:nvSpPr>
        <p:spPr>
          <a:xfrm>
            <a:off x="0" y="1410480"/>
            <a:ext cx="59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počítej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TextovéPole 21"/>
              <p:cNvSpPr txBox="1"/>
              <p:nvPr/>
            </p:nvSpPr>
            <p:spPr>
              <a:xfrm>
                <a:off x="0" y="1980000"/>
                <a:ext cx="69480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𝟐</m:t>
                        </m:r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𝟐</m:t>
                        </m:r>
                        <m:r>
                          <m:t xml:space="preserve">𝐱</m:t>
                        </m:r>
                        <m:r>
                          <m:t xml:space="preserve">−</m:t>
                        </m:r>
                        <m:r>
                          <m:t xml:space="preserve">𝟐</m:t>
                        </m:r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𝟑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𝟑</m:t>
                        </m:r>
                        <m:r>
                          <m:t xml:space="preserve">𝐱</m:t>
                        </m:r>
                        <m:r>
                          <m:t xml:space="preserve">+</m:t>
                        </m:r>
                        <m:r>
                          <m:t xml:space="preserve">𝟒</m:t>
                        </m:r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𝟑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𝐱</m:t>
                        </m:r>
                        <m:r>
                          <m:t xml:space="preserve">−</m:t>
                        </m:r>
                        <m:r>
                          <m:t xml:space="preserve">𝟒</m:t>
                        </m:r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𝟓</m:t>
                            </m:r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𝟑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TextovéPole 31"/>
              <p:cNvSpPr txBox="1"/>
              <p:nvPr/>
            </p:nvSpPr>
            <p:spPr>
              <a:xfrm>
                <a:off x="6840000" y="1440000"/>
                <a:ext cx="2304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𝟑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𝟔</m:t>
                    </m:r>
                    <m:r>
                      <m:t xml:space="preserve">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TextovéPole 32"/>
              <p:cNvSpPr txBox="1"/>
              <p:nvPr/>
            </p:nvSpPr>
            <p:spPr>
              <a:xfrm>
                <a:off x="0" y="2700000"/>
                <a:ext cx="52916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𝟑</m:t>
                            </m:r>
                          </m:num>
                          <m:den>
                            <m:r>
                              <m:t xml:space="preserve">𝟒</m:t>
                            </m:r>
                          </m:den>
                        </m:f>
                        <m:r>
                          <m:t xml:space="preserve">𝐚</m:t>
                        </m:r>
                        <m:r>
                          <m:t xml:space="preserve">+</m:t>
                        </m:r>
                        <m:r>
                          <m:t xml:space="preserve">𝟎</m:t>
                        </m:r>
                        <m:r>
                          <m:t xml:space="preserve">,</m:t>
                        </m:r>
                        <m:r>
                          <m:t xml:space="preserve">𝟔</m:t>
                        </m:r>
                        <m:r>
                          <m:t xml:space="preserve">𝐛</m:t>
                        </m:r>
                        <m:r>
                          <m:t xml:space="preserve">−</m:t>
                        </m:r>
                        <m:r>
                          <m:t xml:space="preserve">𝟐</m:t>
                        </m:r>
                        <m:r>
                          <m:t xml:space="preserve">,</m:t>
                        </m:r>
                        <m:r>
                          <m:t xml:space="preserve">𝟐𝟓</m:t>
                        </m:r>
                        <m:r>
                          <m:t xml:space="preserve">𝐜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𝟐</m:t>
                            </m:r>
                          </m:num>
                          <m:den>
                            <m:r>
                              <m:t xml:space="preserve">𝟓</m:t>
                            </m:r>
                          </m:den>
                        </m:f>
                        <m:r>
                          <m:t xml:space="preserve">𝐛</m:t>
                        </m:r>
                        <m:r>
                          <m:t xml:space="preserve">−</m:t>
                        </m:r>
                        <m:r>
                          <m:t xml:space="preserve">𝟎</m:t>
                        </m:r>
                        <m:r>
                          <m:t xml:space="preserve">,</m:t>
                        </m:r>
                        <m:r>
                          <m:t xml:space="preserve">𝟐𝟓</m:t>
                        </m:r>
                        <m:r>
                          <m:t xml:space="preserve">𝐚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𝟑</m:t>
                            </m:r>
                          </m:num>
                          <m:den>
                            <m:r>
                              <m:t xml:space="preserve">𝟒</m:t>
                            </m:r>
                          </m:den>
                        </m:f>
                        <m:r>
                          <m:t xml:space="preserve">𝐜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TextovéPole 33"/>
              <p:cNvSpPr txBox="1"/>
              <p:nvPr/>
            </p:nvSpPr>
            <p:spPr>
              <a:xfrm>
                <a:off x="6839640" y="1440000"/>
                <a:ext cx="192312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𝐚</m:t>
                    </m:r>
                    <m:r>
                      <m:t xml:space="preserve">+</m:t>
                    </m:r>
                    <m:r>
                      <m:t xml:space="preserve">𝐛</m:t>
                    </m:r>
                    <m:r>
                      <m:t xml:space="preserve">−</m:t>
                    </m:r>
                    <m:r>
                      <m:t xml:space="preserve">𝟑</m:t>
                    </m:r>
                    <m:r>
                      <m:t xml:space="preserve">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TextovéPole 34"/>
              <p:cNvSpPr txBox="1"/>
              <p:nvPr/>
            </p:nvSpPr>
            <p:spPr>
              <a:xfrm>
                <a:off x="0" y="3420000"/>
                <a:ext cx="63720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𝟑</m:t>
                        </m:r>
                        <m:sSup>
                          <m:e>
                            <m:r>
                              <m:t xml:space="preserve">𝐫</m:t>
                            </m:r>
                          </m:e>
                          <m:sup>
                            <m:r>
                              <m:t xml:space="preserve">𝟑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𝟐</m:t>
                        </m:r>
                        <m:sSup>
                          <m:e>
                            <m:r>
                              <m:t xml:space="preserve">𝐫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𝟒</m:t>
                        </m:r>
                        <m:r>
                          <m:t xml:space="preserve">𝐫</m:t>
                        </m:r>
                        <m:r>
                          <m:t xml:space="preserve">−</m:t>
                        </m:r>
                        <m:r>
                          <m:t xml:space="preserve">𝟔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𝟑</m:t>
                        </m:r>
                        <m:sSup>
                          <m:e>
                            <m:r>
                              <m:t xml:space="preserve">𝐫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𝟓</m:t>
                        </m:r>
                        <m:r>
                          <m:t xml:space="preserve">𝐫</m:t>
                        </m:r>
                        <m:r>
                          <m:t xml:space="preserve">−</m:t>
                        </m:r>
                        <m:r>
                          <m:t xml:space="preserve">𝟕</m:t>
                        </m:r>
                        <m:sSup>
                          <m:e>
                            <m:r>
                              <m:t xml:space="preserve">𝐫</m:t>
                            </m:r>
                          </m:e>
                          <m:sup>
                            <m:r>
                              <m:t xml:space="preserve">𝟑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𝐫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𝟓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𝐫</m:t>
                            </m:r>
                          </m:e>
                          <m:sup>
                            <m:r>
                              <m:t xml:space="preserve">𝟑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TextovéPole 35"/>
              <p:cNvSpPr txBox="1"/>
              <p:nvPr/>
            </p:nvSpPr>
            <p:spPr>
              <a:xfrm>
                <a:off x="6840000" y="1440000"/>
                <a:ext cx="219600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𝟓</m:t>
                    </m:r>
                    <m:sSup>
                      <m:e>
                        <m:r>
                          <m:t xml:space="preserve">𝐫</m:t>
                        </m:r>
                      </m:e>
                      <m:sup>
                        <m:r>
                          <m:t xml:space="preserve">𝟑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𝟐</m:t>
                    </m:r>
                    <m:sSup>
                      <m:e>
                        <m:r>
                          <m:t xml:space="preserve">𝐫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𝐫</m:t>
                    </m:r>
                    <m:r>
                      <m:t xml:space="preserve">−</m:t>
                    </m:r>
                    <m:r>
                      <m:t xml:space="preserve">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TextovéPole 38"/>
              <p:cNvSpPr txBox="1"/>
              <p:nvPr/>
            </p:nvSpPr>
            <p:spPr>
              <a:xfrm>
                <a:off x="0" y="3780000"/>
                <a:ext cx="56250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𝐲</m:t>
                        </m:r>
                        <m:r>
                          <m:t xml:space="preserve">−</m:t>
                        </m:r>
                        <m:r>
                          <m:t xml:space="preserve">𝟑</m:t>
                        </m:r>
                        <m:r>
                          <m:t xml:space="preserve">𝐱</m:t>
                        </m:r>
                        <m:sSup>
                          <m:e>
                            <m:r>
                              <m:t xml:space="preserve">𝐲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𝟒</m:t>
                        </m:r>
                        <m:sSup>
                          <m:e>
                            <m:r>
                              <m:t xml:space="preserve">𝐱𝐲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𝟑</m:t>
                        </m:r>
                        <m:sSup>
                          <m:e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𝐲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𝟐</m:t>
                            </m:r>
                            <m:r>
                              <m:t xml:space="preserve">𝐱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𝐲</m:t>
                        </m:r>
                        <m:r>
                          <m:t xml:space="preserve">−</m:t>
                        </m:r>
                        <m:r>
                          <m:t xml:space="preserve">𝟕</m:t>
                        </m:r>
                        <m:sSup>
                          <m:e>
                            <m:r>
                              <m:t xml:space="preserve">𝐱</m:t>
                            </m:r>
                            <m:r>
                              <m:t xml:space="preserve">𝐲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TextovéPole 39"/>
              <p:cNvSpPr txBox="1"/>
              <p:nvPr/>
            </p:nvSpPr>
            <p:spPr>
              <a:xfrm>
                <a:off x="6840000" y="1440000"/>
                <a:ext cx="187236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𝟒</m:t>
                    </m:r>
                    <m:sSup>
                      <m:e>
                        <m:r>
                          <m:t xml:space="preserve">𝐱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TextovéPole 40"/>
              <p:cNvSpPr txBox="1"/>
              <p:nvPr/>
            </p:nvSpPr>
            <p:spPr>
              <a:xfrm>
                <a:off x="0" y="4140000"/>
                <a:ext cx="79916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𝟖</m:t>
                        </m:r>
                        <m:sSup>
                          <m:e>
                            <m:r>
                              <m:t xml:space="preserve">𝐚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𝐛𝐜</m:t>
                        </m:r>
                        <m:r>
                          <m:t xml:space="preserve">−</m:t>
                        </m:r>
                        <m:r>
                          <m:t xml:space="preserve">𝟓</m:t>
                        </m:r>
                        <m:r>
                          <m:t xml:space="preserve">𝐚𝐛</m:t>
                        </m:r>
                        <m:sSup>
                          <m:e>
                            <m:r>
                              <m:t xml:space="preserve">𝐜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𝐚𝐛𝐜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𝟐</m:t>
                        </m:r>
                        <m:sSup>
                          <m:e>
                            <m:r>
                              <m:t xml:space="preserve">𝐚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𝐛𝐜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𝟑</m:t>
                        </m:r>
                        <m:sSup>
                          <m:e>
                            <m:r>
                              <m:t xml:space="preserve">𝐚𝐛𝐜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𝐚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𝐛𝐜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𝟐</m:t>
                        </m:r>
                        <m:sSup>
                          <m:e>
                            <m:r>
                              <m:t xml:space="preserve">𝐚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  <m:r>
                          <m:t xml:space="preserve">𝐛𝐜</m:t>
                        </m:r>
                        <m:r>
                          <m:t xml:space="preserve">−</m:t>
                        </m:r>
                        <m:r>
                          <m:t xml:space="preserve">𝐚𝐛</m:t>
                        </m:r>
                        <m:sSup>
                          <m:e>
                            <m:r>
                              <m:t xml:space="preserve">𝐜</m:t>
                            </m:r>
                          </m:e>
                          <m:sup>
                            <m:r>
                              <m:t xml:space="preserve">𝟐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TextovéPole 41"/>
              <p:cNvSpPr txBox="1"/>
              <p:nvPr/>
            </p:nvSpPr>
            <p:spPr>
              <a:xfrm>
                <a:off x="6840000" y="1440000"/>
                <a:ext cx="2100240" cy="3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𝟗</m:t>
                    </m:r>
                    <m:sSup>
                      <m:e>
                        <m:r>
                          <m:t xml:space="preserve">𝐚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  <m:r>
                      <m:t xml:space="preserve">𝐛𝐜</m:t>
                    </m:r>
                    <m:r>
                      <m:t xml:space="preserve">−</m:t>
                    </m:r>
                    <m:r>
                      <m:t xml:space="preserve">𝟏𝟎</m:t>
                    </m:r>
                    <m:r>
                      <m:t xml:space="preserve">𝐚𝐛</m:t>
                    </m:r>
                    <m:sSup>
                      <m:e>
                        <m:r>
                          <m:t xml:space="preserve">𝐜</m:t>
                        </m:r>
                      </m:e>
                      <m:sup>
                        <m:r>
                          <m:t xml:space="preserve">𝟐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TextovéPole 51"/>
              <p:cNvSpPr txBox="1"/>
              <p:nvPr/>
            </p:nvSpPr>
            <p:spPr>
              <a:xfrm>
                <a:off x="0" y="4500000"/>
                <a:ext cx="716400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𝟓</m:t>
                        </m:r>
                        <m:r>
                          <m:t xml:space="preserve">𝐦</m:t>
                        </m:r>
                        <m:r>
                          <m:t xml:space="preserve">+</m:t>
                        </m:r>
                        <m:r>
                          <m:t xml:space="preserve">𝟐</m:t>
                        </m:r>
                        <m:r>
                          <m:t xml:space="preserve">𝐧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𝐦</m:t>
                        </m:r>
                        <m:r>
                          <m:t xml:space="preserve">−</m:t>
                        </m:r>
                        <m:r>
                          <m:t xml:space="preserve">𝟑</m:t>
                        </m:r>
                        <m:r>
                          <m:t xml:space="preserve">𝐧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𝟑</m:t>
                        </m:r>
                        <m:r>
                          <m:t xml:space="preserve">𝐧</m:t>
                        </m:r>
                        <m:r>
                          <m:t xml:space="preserve">−</m:t>
                        </m:r>
                        <m:r>
                          <m:t xml:space="preserve">𝟐</m:t>
                        </m:r>
                        <m:r>
                          <m:t xml:space="preserve">𝐦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𝟑</m:t>
                        </m:r>
                        <m:r>
                          <m:t xml:space="preserve">𝐦</m:t>
                        </m:r>
                        <m:r>
                          <m:t xml:space="preserve">−</m:t>
                        </m:r>
                        <m:r>
                          <m:t xml:space="preserve">𝟐</m:t>
                        </m:r>
                        <m:r>
                          <m:t xml:space="preserve">𝐧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𝟑</m:t>
                        </m:r>
                        <m:r>
                          <m:t xml:space="preserve">𝐧</m:t>
                        </m:r>
                        <m:r>
                          <m:t xml:space="preserve">+</m:t>
                        </m:r>
                        <m:r>
                          <m:t xml:space="preserve">𝟖</m:t>
                        </m:r>
                        <m:r>
                          <m:t xml:space="preserve">𝐦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TextovéPole 52"/>
              <p:cNvSpPr txBox="1"/>
              <p:nvPr/>
            </p:nvSpPr>
            <p:spPr>
              <a:xfrm>
                <a:off x="6840000" y="1440000"/>
                <a:ext cx="192312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𝟗</m:t>
                    </m:r>
                    <m:r>
                      <m:t xml:space="preserve">𝐦</m:t>
                    </m:r>
                    <m:r>
                      <m:t xml:space="preserve">+</m:t>
                    </m:r>
                    <m:r>
                      <m:t xml:space="preserve">𝟕</m:t>
                    </m:r>
                    <m:r>
                      <m:t xml:space="preserve">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TextovéPole 19"/>
              <p:cNvSpPr txBox="1"/>
              <p:nvPr/>
            </p:nvSpPr>
            <p:spPr>
              <a:xfrm>
                <a:off x="0" y="2340000"/>
                <a:ext cx="483876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𝐚</m:t>
                        </m:r>
                        <m:r>
                          <m:t xml:space="preserve">+</m:t>
                        </m:r>
                        <m:r>
                          <m:t xml:space="preserve">𝟑</m:t>
                        </m:r>
                        <m:r>
                          <m:t xml:space="preserve">𝐛</m:t>
                        </m:r>
                        <m:r>
                          <m:t xml:space="preserve">−</m:t>
                        </m:r>
                        <m:r>
                          <m:t xml:space="preserve">𝟓</m:t>
                        </m:r>
                        <m:r>
                          <m:t xml:space="preserve">𝐜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𝟑</m:t>
                        </m:r>
                        <m:r>
                          <m:t xml:space="preserve">𝐛</m:t>
                        </m:r>
                        <m:r>
                          <m:t xml:space="preserve">+</m:t>
                        </m:r>
                        <m:r>
                          <m:t xml:space="preserve">𝟒</m:t>
                        </m:r>
                        <m:r>
                          <m:t xml:space="preserve">𝐜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𝟐</m:t>
                        </m:r>
                        <m:r>
                          <m:t xml:space="preserve">𝐚</m:t>
                        </m:r>
                        <m:r>
                          <m:t xml:space="preserve">−</m:t>
                        </m:r>
                        <m:r>
                          <m:t xml:space="preserve">𝟑</m:t>
                        </m:r>
                        <m:r>
                          <m:t xml:space="preserve">𝐜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TextovéPole 20"/>
              <p:cNvSpPr txBox="1"/>
              <p:nvPr/>
            </p:nvSpPr>
            <p:spPr>
              <a:xfrm>
                <a:off x="6839640" y="1440000"/>
                <a:ext cx="192312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𝟑</m:t>
                    </m:r>
                    <m:r>
                      <m:t xml:space="preserve">𝐚</m:t>
                    </m:r>
                    <m:r>
                      <m:t xml:space="preserve">−</m:t>
                    </m:r>
                    <m:r>
                      <m:t xml:space="preserve">𝟒</m:t>
                    </m:r>
                    <m:r>
                      <m:t xml:space="preserve">𝐜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Prezentace školení zaměstnanců">
  <a:themeElements>
    <a:clrScheme name="Blends 5">
      <a:dk1>
        <a:srgbClr val="000000"/>
      </a:dk1>
      <a:lt1>
        <a:srgbClr val="ffffff"/>
      </a:lt1>
      <a:dk2>
        <a:srgbClr val="000066"/>
      </a:dk2>
      <a:lt2>
        <a:srgbClr val="333333"/>
      </a:lt2>
      <a:accent1>
        <a:srgbClr val="c4709a"/>
      </a:accent1>
      <a:accent2>
        <a:srgbClr val="4b4eb5"/>
      </a:accent2>
      <a:accent3>
        <a:srgbClr val="ffffff"/>
      </a:accent3>
      <a:accent4>
        <a:srgbClr val="000000"/>
      </a:accent4>
      <a:accent5>
        <a:srgbClr val="debbca"/>
      </a:accent5>
      <a:accent6>
        <a:srgbClr val="4346a4"/>
      </a:accent6>
      <a:hlink>
        <a:srgbClr val="c481cf"/>
      </a:hlink>
      <a:folHlink>
        <a:srgbClr val="76b74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rezentace školení zaměstnanců">
  <a:themeElements>
    <a:clrScheme name="Blends 5">
      <a:dk1>
        <a:srgbClr val="000000"/>
      </a:dk1>
      <a:lt1>
        <a:srgbClr val="ffffff"/>
      </a:lt1>
      <a:dk2>
        <a:srgbClr val="000066"/>
      </a:dk2>
      <a:lt2>
        <a:srgbClr val="333333"/>
      </a:lt2>
      <a:accent1>
        <a:srgbClr val="c4709a"/>
      </a:accent1>
      <a:accent2>
        <a:srgbClr val="4b4eb5"/>
      </a:accent2>
      <a:accent3>
        <a:srgbClr val="ffffff"/>
      </a:accent3>
      <a:accent4>
        <a:srgbClr val="000000"/>
      </a:accent4>
      <a:accent5>
        <a:srgbClr val="debbca"/>
      </a:accent5>
      <a:accent6>
        <a:srgbClr val="4346a4"/>
      </a:accent6>
      <a:hlink>
        <a:srgbClr val="c481cf"/>
      </a:hlink>
      <a:folHlink>
        <a:srgbClr val="76b74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66"/>
      </a:dk2>
      <a:lt2>
        <a:srgbClr val="333333"/>
      </a:lt2>
      <a:accent1>
        <a:srgbClr val="c4709a"/>
      </a:accent1>
      <a:accent2>
        <a:srgbClr val="4b4eb5"/>
      </a:accent2>
      <a:accent3>
        <a:srgbClr val="ffffff"/>
      </a:accent3>
      <a:accent4>
        <a:srgbClr val="000000"/>
      </a:accent4>
      <a:accent5>
        <a:srgbClr val="debbca"/>
      </a:accent5>
      <a:accent6>
        <a:srgbClr val="4346a4"/>
      </a:accent6>
      <a:hlink>
        <a:srgbClr val="c481cf"/>
      </a:hlink>
      <a:folHlink>
        <a:srgbClr val="76b74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rezentace školení zaměstnanců</Template>
  <TotalTime>3453</TotalTime>
  <Application>LibreOffice/7.4.7.2$Linux_X86_64 LibreOffice_project/40$Build-2</Application>
  <AppVersion>15.0000</AppVersion>
  <Words>859</Words>
  <Paragraphs>182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8:14:14Z</dcterms:created>
  <dc:creator>Pedro</dc:creator>
  <dc:description/>
  <dc:language>en-US</dc:language>
  <cp:lastModifiedBy>LocalAdmin</cp:lastModifiedBy>
  <dcterms:modified xsi:type="dcterms:W3CDTF">2020-11-03T17:09:17Z</dcterms:modified>
  <cp:revision>455</cp:revision>
  <dc:subject/>
  <dc:title>Lineární rovnice se dvěma neznámým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Předvádění na obrazovce (16:9)</vt:lpwstr>
  </property>
  <property fmtid="{D5CDD505-2E9C-101B-9397-08002B2CF9AE}" pid="4" name="Slides">
    <vt:r8>9</vt:r8>
  </property>
  <property fmtid="{D5CDD505-2E9C-101B-9397-08002B2CF9AE}" pid="5" name="_TemplateID">
    <vt:lpwstr>TC010130221029</vt:lpwstr>
  </property>
</Properties>
</file>