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AD8-7BF1-4A5A-B068-934BB5CA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8F9-077B-44CC-95CF-A32623D0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573-8FE6-45AC-9ADB-CC4D282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A11-BF03-4A58-9EEF-7B70262A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328-A2B1-4D9D-B087-3A7D0C3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4BD-AF6A-4EF3-BD59-F95523F3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C01-BE23-40CC-BC5B-01EED67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A54-D204-40C7-AA18-FFA9102E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F0F-EE56-43ED-8961-B185622B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856-414C-415A-BE2F-B9DB494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1D4-614D-4823-94F2-C3762E6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DB6-7D6E-4929-B343-D34C9AD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F71A-8C7B-47BE-8DBB-624E5397C0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99"/>
                </a:solidFill>
                <a:latin typeface="Times New Roman"/>
              </a:rPr>
              <a:t>Celá čís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24000" y="1413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ní stav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výšky hladiny řeky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je 14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Export1"/>
          <p:cNvPicPr/>
          <p:nvPr/>
        </p:nvPicPr>
        <p:blipFill>
          <a:blip r:embed="rId1"/>
          <a:stretch/>
        </p:blipFill>
        <p:spPr>
          <a:xfrm>
            <a:off x="61128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204" name="Line 12"/>
          <p:cNvSpPr/>
          <p:nvPr/>
        </p:nvSpPr>
        <p:spPr>
          <a:xfrm>
            <a:off x="468360" y="4221000"/>
            <a:ext cx="1942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69236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norm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14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 rot="16200000">
            <a:off x="-484200" y="2581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na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 rot="16200000">
            <a:off x="-484560" y="52452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po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851280" y="2952720"/>
            <a:ext cx="93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2" descr="Export1"/>
          <p:cNvPicPr/>
          <p:nvPr/>
        </p:nvPicPr>
        <p:blipFill>
          <a:blip r:embed="rId2"/>
          <a:stretch/>
        </p:blipFill>
        <p:spPr>
          <a:xfrm>
            <a:off x="4681440" y="1968480"/>
            <a:ext cx="1619280" cy="4629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3"/>
          <p:cNvSpPr/>
          <p:nvPr/>
        </p:nvSpPr>
        <p:spPr>
          <a:xfrm>
            <a:off x="5580000" y="242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Urči odchylku od norm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2843280" y="3429000"/>
            <a:ext cx="259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2cm nad norm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635280" y="2060640"/>
            <a:ext cx="1584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Odchy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+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24000" y="1413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ní stav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výšky hladiny řeky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je 14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Export1"/>
          <p:cNvPicPr/>
          <p:nvPr/>
        </p:nvPicPr>
        <p:blipFill>
          <a:blip r:embed="rId1"/>
          <a:stretch/>
        </p:blipFill>
        <p:spPr>
          <a:xfrm>
            <a:off x="61128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224" name="Line 12"/>
          <p:cNvSpPr/>
          <p:nvPr/>
        </p:nvSpPr>
        <p:spPr>
          <a:xfrm>
            <a:off x="468360" y="4221000"/>
            <a:ext cx="1942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69236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norm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14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 rot="16200000">
            <a:off x="-484200" y="2581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na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 rot="16200000">
            <a:off x="-484560" y="52452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po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2" descr="Export1"/>
          <p:cNvPicPr/>
          <p:nvPr/>
        </p:nvPicPr>
        <p:blipFill>
          <a:blip r:embed="rId2"/>
          <a:stretch/>
        </p:blipFill>
        <p:spPr>
          <a:xfrm>
            <a:off x="468144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3"/>
          <p:cNvSpPr/>
          <p:nvPr/>
        </p:nvSpPr>
        <p:spPr>
          <a:xfrm>
            <a:off x="5580000" y="242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Urči odchylku od norm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7380360" y="5184720"/>
            <a:ext cx="93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7164360" y="4292640"/>
            <a:ext cx="1584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Odchy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-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6372360" y="5661000"/>
            <a:ext cx="259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1cm pod norm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24000" y="1413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rovnej stupn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24000" y="21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9999"/>
                </a:solidFill>
                <a:latin typeface="Times New Roman"/>
              </a:rPr>
              <a:t>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Export1"/>
          <p:cNvPicPr/>
          <p:nvPr/>
        </p:nvPicPr>
        <p:blipFill>
          <a:blip r:embed="rId1"/>
          <a:stretch/>
        </p:blipFill>
        <p:spPr>
          <a:xfrm>
            <a:off x="108000" y="2852640"/>
            <a:ext cx="6286320" cy="838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7"/>
          <p:cNvSpPr/>
          <p:nvPr/>
        </p:nvSpPr>
        <p:spPr>
          <a:xfrm>
            <a:off x="6804000" y="134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9999"/>
                </a:solidFill>
                <a:latin typeface="Times New Roman"/>
              </a:rPr>
              <a:t>teplom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1" descr="Export1"/>
          <p:cNvPicPr/>
          <p:nvPr/>
        </p:nvPicPr>
        <p:blipFill>
          <a:blip r:embed="rId2"/>
          <a:stretch/>
        </p:blipFill>
        <p:spPr>
          <a:xfrm>
            <a:off x="7093080" y="1989000"/>
            <a:ext cx="1619280" cy="4619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2"/>
          <p:cNvSpPr/>
          <p:nvPr/>
        </p:nvSpPr>
        <p:spPr>
          <a:xfrm>
            <a:off x="179280" y="42051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Times New Roman"/>
              </a:rPr>
              <a:t>Co mají obě stupnice společn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619280" y="47815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Times New Roman"/>
              </a:rPr>
              <a:t>nulový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>
            <a:off x="162000" y="314172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5"/>
          <p:cNvSpPr/>
          <p:nvPr/>
        </p:nvSpPr>
        <p:spPr>
          <a:xfrm flipH="1">
            <a:off x="7380360" y="4173480"/>
            <a:ext cx="107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79280" y="55008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Times New Roman"/>
              </a:rPr>
              <a:t>V čem se liš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826920" y="60055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Times New Roman"/>
              </a:rPr>
              <a:t>ve směru postupu od nulového b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8"/>
          <p:cNvSpPr/>
          <p:nvPr/>
        </p:nvSpPr>
        <p:spPr>
          <a:xfrm>
            <a:off x="179280" y="3573360"/>
            <a:ext cx="4464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9"/>
          <p:cNvSpPr/>
          <p:nvPr/>
        </p:nvSpPr>
        <p:spPr>
          <a:xfrm>
            <a:off x="324000" y="3537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Times New Roman"/>
              </a:rPr>
              <a:t>pouze jeden směr – kladné hodnoty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0"/>
          <p:cNvSpPr/>
          <p:nvPr/>
        </p:nvSpPr>
        <p:spPr>
          <a:xfrm flipV="1">
            <a:off x="8604360" y="1989000"/>
            <a:ext cx="0" cy="216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1"/>
          <p:cNvSpPr/>
          <p:nvPr/>
        </p:nvSpPr>
        <p:spPr>
          <a:xfrm rot="16200000">
            <a:off x="7111440" y="2257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Times New Roman"/>
              </a:rPr>
              <a:t>kladné stupně (+) - te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7164360" y="4149720"/>
            <a:ext cx="0" cy="24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3"/>
          <p:cNvSpPr/>
          <p:nvPr/>
        </p:nvSpPr>
        <p:spPr>
          <a:xfrm rot="5400000">
            <a:off x="5560560" y="513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Times New Roman"/>
              </a:rPr>
              <a:t>záporné stupně (-) - 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Narýsuj si číselnou osu podle předlo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"/>
          <p:cNvPicPr/>
          <p:nvPr/>
        </p:nvPicPr>
        <p:blipFill>
          <a:blip r:embed="rId1"/>
          <a:stretch/>
        </p:blipFill>
        <p:spPr>
          <a:xfrm>
            <a:off x="-36360" y="2565360"/>
            <a:ext cx="9180360" cy="893880"/>
          </a:xfrm>
          <a:prstGeom prst="rect">
            <a:avLst/>
          </a:prstGeom>
          <a:ln w="0">
            <a:noFill/>
          </a:ln>
        </p:spPr>
      </p:pic>
      <p:sp>
        <p:nvSpPr>
          <p:cNvPr id="84" name="Line 38"/>
          <p:cNvSpPr/>
          <p:nvPr/>
        </p:nvSpPr>
        <p:spPr>
          <a:xfrm>
            <a:off x="4859280" y="378936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5651640" y="3789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Times New Roman"/>
              </a:rPr>
              <a:t>kladné hodnoty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 flipH="1">
            <a:off x="684000" y="3789360"/>
            <a:ext cx="360036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1763640" y="3789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9999"/>
                </a:solidFill>
                <a:latin typeface="Times New Roman"/>
              </a:rPr>
              <a:t>záporné hodnoty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4000" y="4581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Kladná a záporná čísla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jsou v matematice ve stejném vztahu jako </a:t>
            </a: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stupně tepla a zimy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na teplomě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1197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Zapamatuj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68360" y="2637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(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24000" y="1773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znaménka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+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a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-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jsou s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vlastním číslem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jakoby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srostl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1547640" y="2637000"/>
            <a:ext cx="71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9999"/>
                </a:solidFill>
                <a:latin typeface="Calisto MT"/>
              </a:rPr>
              <a:t>(čti: minus de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4716360" y="2637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(+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5796000" y="2637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9999"/>
                </a:solidFill>
                <a:latin typeface="Calisto MT"/>
              </a:rPr>
              <a:t>(čti: plus de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395280" y="3284640"/>
            <a:ext cx="849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Calisto MT"/>
              </a:rPr>
              <a:t>(</a:t>
            </a: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-9</a:t>
            </a:r>
            <a:r>
              <a:rPr b="0" i="1" lang="cs-CZ" sz="2800" spc="-1" strike="noStrike">
                <a:solidFill>
                  <a:srgbClr val="333399"/>
                </a:solidFill>
                <a:latin typeface="Calisto MT"/>
              </a:rPr>
              <a:t>) je od (</a:t>
            </a: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+9</a:t>
            </a:r>
            <a:r>
              <a:rPr b="0" i="1" lang="cs-CZ" sz="2800" spc="-1" strike="noStrike">
                <a:solidFill>
                  <a:srgbClr val="333399"/>
                </a:solidFill>
                <a:latin typeface="Calisto MT"/>
              </a:rPr>
              <a:t>) právě tak rozdílné, ja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9 stupňů pod nulou </a:t>
            </a:r>
            <a:r>
              <a:rPr b="0" i="1" lang="cs-CZ" sz="2800" spc="-1" strike="noStrike">
                <a:solidFill>
                  <a:srgbClr val="333399"/>
                </a:solidFill>
                <a:latin typeface="Calisto MT"/>
              </a:rPr>
              <a:t>a</a:t>
            </a:r>
            <a:r>
              <a:rPr b="0" i="1" lang="cs-CZ" sz="2800" spc="-1" strike="noStrike">
                <a:solidFill>
                  <a:srgbClr val="ff3300"/>
                </a:solidFill>
                <a:latin typeface="Calisto MT"/>
              </a:rPr>
              <a:t> 9 stupňů nad nulou </a:t>
            </a:r>
            <a:r>
              <a:rPr b="0" i="1" lang="cs-CZ" sz="2800" spc="-1" strike="noStrike">
                <a:solidFill>
                  <a:srgbClr val="333399"/>
                </a:solidFill>
                <a:latin typeface="Calisto MT"/>
              </a:rPr>
              <a:t>na teplom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395280" y="5084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Pouhá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9 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značí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+9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, stejně jako výra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468360" y="558972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9 stupňů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rozumíme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+9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stupňů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, tedy 9 stupňů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tep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22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24000" y="1413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= jsou čís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087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…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; -9; -8; -7; -6; -5; -4; -3; -2; -1; 0; 1; 2; 3; 4; 5; 6; 7; 8; 9;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5292720" y="306864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6084720" y="306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Times New Roman"/>
              </a:rPr>
              <a:t>kladná celá čísla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1115640" y="3068640"/>
            <a:ext cx="360036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1692360" y="306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9999"/>
                </a:solidFill>
                <a:latin typeface="Times New Roman"/>
              </a:rPr>
              <a:t>záporná celá čísla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684360" y="386064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Je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ula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kladná nebo záporn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1692360" y="43657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-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ení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ani kladná ani zápor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692360" y="486900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- ale patří mezi cel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250920" y="558972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Calisto MT"/>
              </a:rPr>
              <a:t>Která čísla</a:t>
            </a:r>
            <a:r>
              <a:rPr b="0" i="1" lang="cs-CZ" sz="2400" spc="-1" strike="noStrike">
                <a:solidFill>
                  <a:srgbClr val="009999"/>
                </a:solidFill>
                <a:latin typeface="Calisto MT"/>
              </a:rPr>
              <a:t>(o kterých jste se již učili)</a:t>
            </a:r>
            <a:r>
              <a:rPr b="0" lang="cs-CZ" sz="2800" spc="-1" strike="noStrike">
                <a:solidFill>
                  <a:srgbClr val="009999"/>
                </a:solidFill>
                <a:latin typeface="Calisto MT"/>
              </a:rPr>
              <a:t> 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epatří</a:t>
            </a:r>
            <a:r>
              <a:rPr b="0" lang="cs-CZ" sz="2800" spc="-1" strike="noStrike">
                <a:solidFill>
                  <a:srgbClr val="009999"/>
                </a:solidFill>
                <a:latin typeface="Calisto MT"/>
              </a:rPr>
              <a:t> mezi celá čís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50920" y="602136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- zlomky, desetinn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24000" y="1413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Na číselné ose sestroj obrazy celých čísel</a:t>
            </a:r>
            <a:r>
              <a:rPr b="0" lang="cs-CZ" sz="2400" spc="-1" strike="noStrike">
                <a:solidFill>
                  <a:srgbClr val="333399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24000" y="22622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2, -6,  3,  1, -4, -2, -3,  5,  0, -7,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95280" y="134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Z daných čísel vypi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501480" y="198900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1,2;   -8;   -2,31;   0;   17;   -25;   -12,3;   -12;   1;   38;   -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50920" y="2924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a) všechna celá kladn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50920" y="36450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b) všechna přirozen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250920" y="44370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c) všechna cel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250920" y="5157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d) všechna celá záporn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250920" y="59500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e) všechna kladná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4000" y="1413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ní stav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výšky hladiny řeky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je 14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9" descr="Export1"/>
          <p:cNvPicPr/>
          <p:nvPr/>
        </p:nvPicPr>
        <p:blipFill>
          <a:blip r:embed="rId1"/>
          <a:stretch/>
        </p:blipFill>
        <p:spPr>
          <a:xfrm>
            <a:off x="61128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160" name="Line 20"/>
          <p:cNvSpPr/>
          <p:nvPr/>
        </p:nvSpPr>
        <p:spPr>
          <a:xfrm>
            <a:off x="468360" y="4221000"/>
            <a:ext cx="1942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69236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norm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14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5" descr="Export1"/>
          <p:cNvPicPr/>
          <p:nvPr/>
        </p:nvPicPr>
        <p:blipFill>
          <a:blip r:embed="rId2"/>
          <a:stretch/>
        </p:blipFill>
        <p:spPr>
          <a:xfrm>
            <a:off x="421164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6"/>
          <p:cNvSpPr/>
          <p:nvPr/>
        </p:nvSpPr>
        <p:spPr>
          <a:xfrm rot="16200000">
            <a:off x="-484200" y="2581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na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 rot="16200000">
            <a:off x="-484560" y="52452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po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5364000" y="242100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Urči odchylku od norm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6012000" y="4508640"/>
            <a:ext cx="39956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Odchy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-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6372360" y="5400720"/>
            <a:ext cx="93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867280" y="5877000"/>
            <a:ext cx="3996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2cm pod norm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1619280" y="2060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Jak se výška hladiny řeky může dostat nad norm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1619280" y="2565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Když prší nebo taje sní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2124000" y="4795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Jak se výška hladiny řeky může dostat pod norm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124000" y="5300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Když neprší a je s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Calisto MT"/>
              </a:rPr>
              <a:t>Celá čís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24000" y="1413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ní stav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 výšky hladiny řeky (</a:t>
            </a:r>
            <a:r>
              <a:rPr b="0" lang="cs-CZ" sz="2800" spc="-1" strike="noStrike">
                <a:solidFill>
                  <a:srgbClr val="ff3300"/>
                </a:solidFill>
                <a:latin typeface="Calisto MT"/>
              </a:rPr>
              <a:t>normál</a:t>
            </a:r>
            <a:r>
              <a:rPr b="0" lang="cs-CZ" sz="2800" spc="-1" strike="noStrike">
                <a:solidFill>
                  <a:srgbClr val="333399"/>
                </a:solidFill>
                <a:latin typeface="Calisto MT"/>
              </a:rPr>
              <a:t>) je 14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Export1"/>
          <p:cNvPicPr/>
          <p:nvPr/>
        </p:nvPicPr>
        <p:blipFill>
          <a:blip r:embed="rId1"/>
          <a:stretch/>
        </p:blipFill>
        <p:spPr>
          <a:xfrm>
            <a:off x="611280" y="1916280"/>
            <a:ext cx="1619280" cy="4628880"/>
          </a:xfrm>
          <a:prstGeom prst="rect">
            <a:avLst/>
          </a:prstGeom>
          <a:ln w="0">
            <a:noFill/>
          </a:ln>
        </p:spPr>
      </p:pic>
      <p:sp>
        <p:nvSpPr>
          <p:cNvPr id="184" name="Line 12"/>
          <p:cNvSpPr/>
          <p:nvPr/>
        </p:nvSpPr>
        <p:spPr>
          <a:xfrm>
            <a:off x="468360" y="4221000"/>
            <a:ext cx="1942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69236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norm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ff"/>
                </a:solidFill>
                <a:latin typeface="Calisto MT"/>
              </a:rPr>
              <a:t>14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 rot="16200000">
            <a:off x="-484200" y="2581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na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 rot="16200000">
            <a:off x="-484560" y="52452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33399"/>
                </a:solidFill>
                <a:latin typeface="Calisto MT"/>
              </a:rPr>
              <a:t>pod norm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0" descr="Export1"/>
          <p:cNvPicPr/>
          <p:nvPr/>
        </p:nvPicPr>
        <p:blipFill>
          <a:blip r:embed="rId2"/>
          <a:stretch/>
        </p:blipFill>
        <p:spPr>
          <a:xfrm>
            <a:off x="4392720" y="1968480"/>
            <a:ext cx="1619280" cy="4629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3059280" y="2060640"/>
            <a:ext cx="158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Odchy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+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419640" y="2952720"/>
            <a:ext cx="93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2556000" y="3429000"/>
            <a:ext cx="259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9999"/>
                </a:solidFill>
                <a:latin typeface="Times New Roman"/>
              </a:rPr>
              <a:t>5cm nad norm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5364000" y="242100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Urči odchylku od norm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39:59Z</dcterms:created>
  <dc:creator>Kamila Kočová</dc:creator>
  <dc:description>Dostupné z Metodického portálu www.rvp.cz, ISSN: 1802-4785, financovaného z ESF a státního rozpočtu ČR. Provozováno Výzkumným ústavem pedagogickým v Praze.</dc:description>
  <dc:language>en-US</dc:language>
  <cp:lastModifiedBy>Reditelka</cp:lastModifiedBy>
  <dcterms:modified xsi:type="dcterms:W3CDTF">2020-10-30T08:49:19Z</dcterms:modified>
  <cp:revision>140</cp:revision>
  <dc:subject/>
  <dc:title>Celá čísla - pojem</dc:title>
</cp:coreProperties>
</file>