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27D-1C66-4134-BBB2-C28B2E360F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408-EDD1-4D15-8A2D-A82FEB915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1E1-3383-4C9D-A1E2-6080DF0B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6D5-3824-4396-AB97-9321AB65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BD0-132F-4714-B3E3-29BE3881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8AA-C387-402B-A33D-26D31A4B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EEE-4A77-4438-8D49-E8E7946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5AA-8914-499C-8322-35DE763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534-F8E7-42CB-842F-DEEA9151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26B-CAC7-460F-A664-D1AFCBD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B8F-BE9A-4560-A8AB-FCE4179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E2D-AE20-4367-9BEE-04BC17C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FA7-A840-49D9-9E30-B1BD835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0BE-3ECD-4D63-A8D4-F048382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C1D-DEE7-4D5D-AB92-35D7CBC396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457200" y="2833560"/>
            <a:ext cx="82296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ělení zlom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79280" y="1628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Čerpadlo plní vodní nádrž rychlostí             za 1 minutu. Za kolik minut se naplní nádrž o objemu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5364000" y="1473120"/>
                <a:ext cx="1368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h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4"/>
              <p:cNvSpPr txBox="1"/>
              <p:nvPr/>
            </p:nvSpPr>
            <p:spPr>
              <a:xfrm>
                <a:off x="5796000" y="1989000"/>
                <a:ext cx="863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17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95280" y="162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počítej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250920" y="2400480"/>
                <a:ext cx="2592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468360" y="4221000"/>
                <a:ext cx="20588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16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95280" y="162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počítej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723960" y="2374920"/>
                <a:ext cx="23270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324000" y="4133880"/>
                <a:ext cx="31255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395280" y="162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počítej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428760" y="2400480"/>
                <a:ext cx="22352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2"/>
              <p:cNvSpPr txBox="1"/>
              <p:nvPr/>
            </p:nvSpPr>
            <p:spPr>
              <a:xfrm>
                <a:off x="468360" y="4221000"/>
                <a:ext cx="411804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2"/>
              <p:cNvSpPr txBox="1"/>
              <p:nvPr/>
            </p:nvSpPr>
            <p:spPr>
              <a:xfrm>
                <a:off x="1547640" y="2430360"/>
                <a:ext cx="3686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ext Box 44"/>
          <p:cNvSpPr/>
          <p:nvPr/>
        </p:nvSpPr>
        <p:spPr>
          <a:xfrm>
            <a:off x="324000" y="1557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řevrácený zlo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179280" y="26780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zlo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132000" y="2749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</a:rPr>
              <a:t>převrácený zlo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55"/>
              <p:cNvSpPr txBox="1"/>
              <p:nvPr/>
            </p:nvSpPr>
            <p:spPr>
              <a:xfrm>
                <a:off x="5867280" y="2533680"/>
                <a:ext cx="3682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56"/>
          <p:cNvSpPr/>
          <p:nvPr/>
        </p:nvSpPr>
        <p:spPr>
          <a:xfrm>
            <a:off x="146160" y="4797360"/>
            <a:ext cx="88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3300"/>
                </a:solidFill>
                <a:latin typeface="Times New Roman"/>
              </a:rPr>
              <a:t>Převrácený zlomek</a:t>
            </a:r>
            <a:r>
              <a:rPr b="1" i="1" lang="cs-CZ" sz="2800" spc="-1" strike="noStrike">
                <a:solidFill>
                  <a:srgbClr val="333399"/>
                </a:solidFill>
                <a:latin typeface="Times New Roman"/>
              </a:rPr>
              <a:t> ke zlomku dostaneme tak, že zaměníme ve zlomku čitatele a jmenovat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8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95280" y="162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rči převrácený zlomek ke zlom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1258920" y="2603520"/>
                <a:ext cx="3855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2484360" y="2676600"/>
                <a:ext cx="405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3635280" y="2676600"/>
                <a:ext cx="3682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5"/>
              <p:cNvSpPr txBox="1"/>
              <p:nvPr/>
            </p:nvSpPr>
            <p:spPr>
              <a:xfrm>
                <a:off x="4788000" y="2676600"/>
                <a:ext cx="536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Rectangle 18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9528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ělení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1187280" y="2305080"/>
                <a:ext cx="8035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 Box 22"/>
          <p:cNvSpPr/>
          <p:nvPr/>
        </p:nvSpPr>
        <p:spPr>
          <a:xfrm>
            <a:off x="2411280" y="25210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 kolik dílů budeme tento zlomek dě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3" descr=""/>
          <p:cNvPicPr/>
          <p:nvPr/>
        </p:nvPicPr>
        <p:blipFill>
          <a:blip r:embed="rId1"/>
          <a:stretch/>
        </p:blipFill>
        <p:spPr>
          <a:xfrm>
            <a:off x="1042920" y="3457440"/>
            <a:ext cx="2772000" cy="676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4"/>
          <p:cNvSpPr/>
          <p:nvPr/>
        </p:nvSpPr>
        <p:spPr>
          <a:xfrm>
            <a:off x="3924360" y="33861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Vybarvi daný zlomek (světlou barv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"/>
          <p:cNvPicPr/>
          <p:nvPr/>
        </p:nvPicPr>
        <p:blipFill>
          <a:blip r:embed="rId2"/>
          <a:stretch/>
        </p:blipFill>
        <p:spPr>
          <a:xfrm>
            <a:off x="1042920" y="3457440"/>
            <a:ext cx="2772000" cy="676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6"/>
          <p:cNvSpPr/>
          <p:nvPr/>
        </p:nvSpPr>
        <p:spPr>
          <a:xfrm>
            <a:off x="7740720" y="2521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na d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3924360" y="374508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dliš barevně rozdělení zlomku na dvě čá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0" descr=""/>
          <p:cNvPicPr/>
          <p:nvPr/>
        </p:nvPicPr>
        <p:blipFill>
          <a:blip r:embed="rId3"/>
          <a:stretch/>
        </p:blipFill>
        <p:spPr>
          <a:xfrm>
            <a:off x="1042920" y="3457440"/>
            <a:ext cx="2772000" cy="676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1"/>
          <p:cNvSpPr/>
          <p:nvPr/>
        </p:nvSpPr>
        <p:spPr>
          <a:xfrm>
            <a:off x="611280" y="42498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Jakou hodnotu má jedna čá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2"/>
              <p:cNvSpPr txBox="1"/>
              <p:nvPr/>
            </p:nvSpPr>
            <p:spPr>
              <a:xfrm>
                <a:off x="4500720" y="410544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33"/>
          <p:cNvSpPr/>
          <p:nvPr/>
        </p:nvSpPr>
        <p:spPr>
          <a:xfrm>
            <a:off x="611280" y="489888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ůžeme říci, že jsme zlomek rozdělili na dvě polov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611280" y="53308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ýpočet jedné poloviny zapíšeme takto</a:t>
            </a:r>
            <a:r>
              <a:rPr b="1" i="1" lang="cs-CZ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5"/>
              <p:cNvSpPr txBox="1"/>
              <p:nvPr/>
            </p:nvSpPr>
            <p:spPr>
              <a:xfrm>
                <a:off x="5757840" y="5186520"/>
                <a:ext cx="974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ze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6"/>
              <p:cNvSpPr txBox="1"/>
              <p:nvPr/>
            </p:nvSpPr>
            <p:spPr>
              <a:xfrm>
                <a:off x="6835680" y="5186520"/>
                <a:ext cx="766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7"/>
              <p:cNvSpPr txBox="1"/>
              <p:nvPr/>
            </p:nvSpPr>
            <p:spPr>
              <a:xfrm>
                <a:off x="7596360" y="518652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38"/>
          <p:cNvSpPr/>
          <p:nvPr/>
        </p:nvSpPr>
        <p:spPr>
          <a:xfrm>
            <a:off x="611280" y="59500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Dokážeš podle tohoto příkladu říci, jak se dělí zlom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9528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ělení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50920" y="3043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Číslo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ělíme</a:t>
            </a:r>
            <a:r>
              <a:rPr b="1" i="1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zlomkem tak, že ho vynásobíme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řevráceným </a:t>
            </a:r>
            <a:r>
              <a:rPr b="1" i="1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7"/>
              <p:cNvSpPr txBox="1"/>
              <p:nvPr/>
            </p:nvSpPr>
            <p:spPr>
              <a:xfrm>
                <a:off x="395280" y="3848040"/>
                <a:ext cx="884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9"/>
              <p:cNvSpPr txBox="1"/>
              <p:nvPr/>
            </p:nvSpPr>
            <p:spPr>
              <a:xfrm>
                <a:off x="1258920" y="3860640"/>
                <a:ext cx="884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0"/>
              <p:cNvSpPr txBox="1"/>
              <p:nvPr/>
            </p:nvSpPr>
            <p:spPr>
              <a:xfrm>
                <a:off x="2124000" y="3860640"/>
                <a:ext cx="4827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3"/>
              <p:cNvSpPr txBox="1"/>
              <p:nvPr/>
            </p:nvSpPr>
            <p:spPr>
              <a:xfrm>
                <a:off x="4481640" y="3776760"/>
                <a:ext cx="963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4"/>
              <p:cNvSpPr txBox="1"/>
              <p:nvPr/>
            </p:nvSpPr>
            <p:spPr>
              <a:xfrm>
                <a:off x="5384880" y="3789360"/>
                <a:ext cx="884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5"/>
              <p:cNvSpPr txBox="1"/>
              <p:nvPr/>
            </p:nvSpPr>
            <p:spPr>
              <a:xfrm>
                <a:off x="6296040" y="3789360"/>
                <a:ext cx="7239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6"/>
              <p:cNvSpPr txBox="1"/>
              <p:nvPr/>
            </p:nvSpPr>
            <p:spPr>
              <a:xfrm>
                <a:off x="7020000" y="3789360"/>
                <a:ext cx="617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37"/>
              <p:cNvSpPr txBox="1"/>
              <p:nvPr/>
            </p:nvSpPr>
            <p:spPr>
              <a:xfrm>
                <a:off x="395280" y="5084640"/>
                <a:ext cx="884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8"/>
              <p:cNvSpPr txBox="1"/>
              <p:nvPr/>
            </p:nvSpPr>
            <p:spPr>
              <a:xfrm>
                <a:off x="1285920" y="5097600"/>
                <a:ext cx="830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2048040" y="5097600"/>
                <a:ext cx="7236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0"/>
              <p:cNvSpPr txBox="1"/>
              <p:nvPr/>
            </p:nvSpPr>
            <p:spPr>
              <a:xfrm>
                <a:off x="2771640" y="5084640"/>
                <a:ext cx="5097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1"/>
              <p:cNvSpPr txBox="1"/>
              <p:nvPr/>
            </p:nvSpPr>
            <p:spPr>
              <a:xfrm>
                <a:off x="4384800" y="5000760"/>
                <a:ext cx="13111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2"/>
              <p:cNvSpPr txBox="1"/>
              <p:nvPr/>
            </p:nvSpPr>
            <p:spPr>
              <a:xfrm>
                <a:off x="5708520" y="5013360"/>
                <a:ext cx="1019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43"/>
              <p:cNvSpPr txBox="1"/>
              <p:nvPr/>
            </p:nvSpPr>
            <p:spPr>
              <a:xfrm>
                <a:off x="6807240" y="5013360"/>
                <a:ext cx="482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47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95280" y="162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počít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2"/>
              <p:cNvSpPr txBox="1"/>
              <p:nvPr/>
            </p:nvSpPr>
            <p:spPr>
              <a:xfrm>
                <a:off x="439560" y="2852640"/>
                <a:ext cx="11034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3"/>
              <p:cNvSpPr txBox="1"/>
              <p:nvPr/>
            </p:nvSpPr>
            <p:spPr>
              <a:xfrm>
                <a:off x="1614600" y="2852640"/>
                <a:ext cx="10047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4"/>
              <p:cNvSpPr txBox="1"/>
              <p:nvPr/>
            </p:nvSpPr>
            <p:spPr>
              <a:xfrm>
                <a:off x="2693880" y="2852640"/>
                <a:ext cx="870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6"/>
              <p:cNvSpPr txBox="1"/>
              <p:nvPr/>
            </p:nvSpPr>
            <p:spPr>
              <a:xfrm>
                <a:off x="461880" y="4437000"/>
                <a:ext cx="113688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7"/>
              <p:cNvSpPr txBox="1"/>
              <p:nvPr/>
            </p:nvSpPr>
            <p:spPr>
              <a:xfrm>
                <a:off x="1635120" y="4437000"/>
                <a:ext cx="11365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8"/>
              <p:cNvSpPr txBox="1"/>
              <p:nvPr/>
            </p:nvSpPr>
            <p:spPr>
              <a:xfrm>
                <a:off x="2771640" y="4437000"/>
                <a:ext cx="56988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0"/>
              <p:cNvSpPr txBox="1"/>
              <p:nvPr/>
            </p:nvSpPr>
            <p:spPr>
              <a:xfrm>
                <a:off x="3564000" y="2852640"/>
                <a:ext cx="6033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32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7928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děl a výsledek převeď na základní tvar nebo smíšené čís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755640" y="2260440"/>
                <a:ext cx="13683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795240" y="3573360"/>
                <a:ext cx="13464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7"/>
              <p:cNvSpPr txBox="1"/>
              <p:nvPr/>
            </p:nvSpPr>
            <p:spPr>
              <a:xfrm>
                <a:off x="838080" y="4981680"/>
                <a:ext cx="1141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8"/>
              <p:cNvSpPr txBox="1"/>
              <p:nvPr/>
            </p:nvSpPr>
            <p:spPr>
              <a:xfrm>
                <a:off x="5608800" y="2173320"/>
                <a:ext cx="11048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9"/>
              <p:cNvSpPr txBox="1"/>
              <p:nvPr/>
            </p:nvSpPr>
            <p:spPr>
              <a:xfrm>
                <a:off x="5408640" y="3397320"/>
                <a:ext cx="1508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0"/>
              <p:cNvSpPr txBox="1"/>
              <p:nvPr/>
            </p:nvSpPr>
            <p:spPr>
              <a:xfrm>
                <a:off x="5286240" y="4765680"/>
                <a:ext cx="15764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22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95280" y="162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ypočítej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781200" y="2454120"/>
                <a:ext cx="146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919080" y="4221000"/>
                <a:ext cx="13795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5783400" y="2421000"/>
                <a:ext cx="12556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689440" y="4062240"/>
                <a:ext cx="14414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18"/>
          <p:cNvSpPr/>
          <p:nvPr/>
        </p:nvSpPr>
        <p:spPr>
          <a:xfrm>
            <a:off x="4497480" y="6585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79280" y="1628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setinná a smíšená čísla vyjádři pomocí zlomků a pak vypočít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1"/>
              <p:cNvSpPr txBox="1"/>
              <p:nvPr/>
            </p:nvSpPr>
            <p:spPr>
              <a:xfrm>
                <a:off x="878040" y="2489040"/>
                <a:ext cx="14619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2"/>
              <p:cNvSpPr txBox="1"/>
              <p:nvPr/>
            </p:nvSpPr>
            <p:spPr>
              <a:xfrm>
                <a:off x="963720" y="4221000"/>
                <a:ext cx="14475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r>
                      <m:t xml:space="preserve">0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3"/>
              <p:cNvSpPr txBox="1"/>
              <p:nvPr/>
            </p:nvSpPr>
            <p:spPr>
              <a:xfrm>
                <a:off x="5753160" y="2421000"/>
                <a:ext cx="13158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4"/>
              <p:cNvSpPr txBox="1"/>
              <p:nvPr/>
            </p:nvSpPr>
            <p:spPr>
              <a:xfrm>
                <a:off x="5553000" y="4062240"/>
                <a:ext cx="17179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6"/>
          <p:cNvSpPr/>
          <p:nvPr/>
        </p:nvSpPr>
        <p:spPr>
          <a:xfrm>
            <a:off x="4425840" y="65880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39:59Z</dcterms:created>
  <dc:creator>Kamila</dc:creator>
  <dc:description>Autorem materiálu a všech jeho částí, není-li uvedeno jinak, je Kamila Kočová.
Dostupné z Metodického portálu www.rvp.cz, ISSN: 1802-4785, financovaného z ESF a státního rozpočtu ČR.
Provozováno Výzkumným ústavem pedagogickým v Praze.</dc:description>
  <dc:language>en-US</dc:language>
  <cp:lastModifiedBy>Reditelka</cp:lastModifiedBy>
  <dcterms:modified xsi:type="dcterms:W3CDTF">2020-10-18T08:59:09Z</dcterms:modified>
  <cp:revision>133</cp:revision>
  <dc:subject/>
  <dc:title>Dělení zlomků</dc:title>
</cp:coreProperties>
</file>