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098-E259-48B9-B387-E61A74B4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FD3-F386-4C41-B901-227F1014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AC3-325D-4C33-A8D9-D51A5192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233-E28B-415C-883F-306AE7F3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E0E-27DB-4F7B-B076-1C853004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F8B7-0EE0-4482-A187-47C3F7D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4012-B934-4B56-8ED6-FD26EBD2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5488-D092-41AB-B924-A33FB7B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2F64-95B4-49C5-8ABC-3773F70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5C43-CB19-498B-9F5F-F661579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5F98-D9EC-4AB7-8351-5F6EFF1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371-A499-49C5-ACCE-443D4228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C0D6-9E68-4A58-9149-1DC972A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2632-4618-467C-9A4A-CF883FA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641-A554-4C5E-A781-D7C5D53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A4A5-741D-4125-9AAD-FAAC6148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B61-E4AC-4F73-A4B0-1D308A94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A41-4178-4A38-AAEE-7016B06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68C-BDF4-48EE-B3A8-3F42F1E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177-DE8C-4493-BC9E-F50AF6C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83F-A1F0-4103-B7B9-1F022706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626-0A1F-4D8E-BB89-D438CD1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0D7-A896-474C-B0D8-751C5DD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4BF-1383-4986-9067-BCA32CA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4CD-9DC9-4012-A38E-B93A10757BEA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8A2-0276-4E53-BE56-8C8652B2EEA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Násobení zlomk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/>
          <a:stretch/>
        </p:blipFill>
        <p:spPr>
          <a:xfrm>
            <a:off x="4624560" y="907920"/>
            <a:ext cx="1099800" cy="547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8" descr=""/>
          <p:cNvPicPr/>
          <p:nvPr/>
        </p:nvPicPr>
        <p:blipFill>
          <a:blip r:embed="rId2"/>
          <a:stretch/>
        </p:blipFill>
        <p:spPr>
          <a:xfrm>
            <a:off x="399960" y="907920"/>
            <a:ext cx="1076400" cy="5473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682560" y="56196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696960" y="4654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3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6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3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6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7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4624560" y="907920"/>
            <a:ext cx="1099800" cy="5473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399960" y="907920"/>
            <a:ext cx="1076400" cy="54738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682560" y="56196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696960" y="4654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7" descr=""/>
          <p:cNvPicPr/>
          <p:nvPr/>
        </p:nvPicPr>
        <p:blipFill>
          <a:blip r:embed="rId4"/>
          <a:stretch/>
        </p:blipFill>
        <p:spPr>
          <a:xfrm>
            <a:off x="1317600" y="922320"/>
            <a:ext cx="941400" cy="5400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8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99072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8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960480" cy="5473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7" descr=""/>
          <p:cNvPicPr/>
          <p:nvPr/>
        </p:nvPicPr>
        <p:blipFill>
          <a:blip r:embed="rId2"/>
          <a:stretch/>
        </p:blipFill>
        <p:spPr>
          <a:xfrm>
            <a:off x="466560" y="907920"/>
            <a:ext cx="979560" cy="5473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682560" y="56624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0"/>
          <p:cNvSpPr/>
          <p:nvPr/>
        </p:nvSpPr>
        <p:spPr>
          <a:xfrm>
            <a:off x="696960" y="469728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4946760" y="5662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4960800" y="469728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960480" cy="5473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466560" y="907920"/>
            <a:ext cx="979560" cy="54738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682560" y="56624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696960" y="469728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4946760" y="5662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4960800" y="469728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7" descr=""/>
          <p:cNvPicPr/>
          <p:nvPr/>
        </p:nvPicPr>
        <p:blipFill>
          <a:blip r:embed="rId4"/>
          <a:stretch/>
        </p:blipFill>
        <p:spPr>
          <a:xfrm>
            <a:off x="1332000" y="936720"/>
            <a:ext cx="954000" cy="547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" descr=""/>
          <p:cNvPicPr/>
          <p:nvPr/>
        </p:nvPicPr>
        <p:blipFill>
          <a:blip r:embed="rId5"/>
          <a:stretch/>
        </p:blipFill>
        <p:spPr>
          <a:xfrm>
            <a:off x="5614920" y="981000"/>
            <a:ext cx="946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6" descr=""/>
          <p:cNvPicPr/>
          <p:nvPr/>
        </p:nvPicPr>
        <p:blipFill>
          <a:blip r:embed="rId1"/>
          <a:stretch/>
        </p:blipFill>
        <p:spPr>
          <a:xfrm>
            <a:off x="1706400" y="1984320"/>
            <a:ext cx="5832720" cy="43974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3276720" y="4653000"/>
            <a:ext cx="1979640" cy="1512720"/>
          </a:xfrm>
          <a:prstGeom prst="cloudCallout">
            <a:avLst>
              <a:gd name="adj1" fmla="val 100523"/>
              <a:gd name="adj2" fmla="val -11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Klikni pro zadání příkla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1"/>
          <a:stretch/>
        </p:blipFill>
        <p:spPr>
          <a:xfrm>
            <a:off x="1692360" y="1940040"/>
            <a:ext cx="5889600" cy="44416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708360" y="3284640"/>
            <a:ext cx="1979640" cy="1512720"/>
          </a:xfrm>
          <a:prstGeom prst="cloudCallout">
            <a:avLst>
              <a:gd name="adj1" fmla="val 98518"/>
              <a:gd name="adj2" fmla="val 22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Zadejte výsledný čitatel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zmáčkněte ENTER pro kontr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tretch/>
        </p:blipFill>
        <p:spPr>
          <a:xfrm>
            <a:off x="1692360" y="2001960"/>
            <a:ext cx="5832360" cy="43797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3635280" y="4437000"/>
            <a:ext cx="2052720" cy="1584360"/>
          </a:xfrm>
          <a:prstGeom prst="cloudCallout">
            <a:avLst>
              <a:gd name="adj1" fmla="val 94625"/>
              <a:gd name="adj2" fmla="val -263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Zadejte výsledný jmenovatel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opět zmáčkněte ENTER pro kontr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9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5827680" cy="43912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3492360" y="3141720"/>
            <a:ext cx="2052720" cy="1584360"/>
          </a:xfrm>
          <a:prstGeom prst="cloudCallout">
            <a:avLst>
              <a:gd name="adj1" fmla="val 84569"/>
              <a:gd name="adj2" fmla="val 71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okud příklad správně vypočítáte, můžete si kliknutím vyvolat dalš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7"/>
          <p:cNvSpPr/>
          <p:nvPr/>
        </p:nvSpPr>
        <p:spPr>
          <a:xfrm>
            <a:off x="3132000" y="1341360"/>
            <a:ext cx="561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Násobení zlomků provádíme tak, že vynásobíme zvlášť čitatele a zvlášť jmenovatele. </a:t>
            </a:r>
            <a:br>
              <a:rPr sz="2800"/>
            </a:b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Pro snadnější výpočty můžeme při násobení zlomků krátit do kříž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4"/>
              <p:cNvSpPr txBox="1"/>
              <p:nvPr/>
            </p:nvSpPr>
            <p:spPr>
              <a:xfrm>
                <a:off x="2054160" y="4724280"/>
                <a:ext cx="240372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5"/>
          <p:cNvSpPr/>
          <p:nvPr/>
        </p:nvSpPr>
        <p:spPr>
          <a:xfrm flipV="1">
            <a:off x="2184480" y="47667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6"/>
          <p:cNvSpPr/>
          <p:nvPr/>
        </p:nvSpPr>
        <p:spPr>
          <a:xfrm flipV="1">
            <a:off x="3249720" y="548748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"/>
          <p:cNvSpPr/>
          <p:nvPr/>
        </p:nvSpPr>
        <p:spPr>
          <a:xfrm>
            <a:off x="2471760" y="449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8"/>
          <p:cNvSpPr/>
          <p:nvPr/>
        </p:nvSpPr>
        <p:spPr>
          <a:xfrm>
            <a:off x="3522600" y="56484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9"/>
          <p:cNvSpPr/>
          <p:nvPr/>
        </p:nvSpPr>
        <p:spPr>
          <a:xfrm flipV="1">
            <a:off x="3236760" y="476676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0"/>
          <p:cNvSpPr/>
          <p:nvPr/>
        </p:nvSpPr>
        <p:spPr>
          <a:xfrm flipV="1">
            <a:off x="2141640" y="548748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1"/>
          <p:cNvSpPr/>
          <p:nvPr/>
        </p:nvSpPr>
        <p:spPr>
          <a:xfrm>
            <a:off x="3624120" y="44942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2"/>
          <p:cNvSpPr/>
          <p:nvPr/>
        </p:nvSpPr>
        <p:spPr>
          <a:xfrm>
            <a:off x="247176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3"/>
              <p:cNvSpPr txBox="1"/>
              <p:nvPr/>
            </p:nvSpPr>
            <p:spPr>
              <a:xfrm>
                <a:off x="4406760" y="4724280"/>
                <a:ext cx="9446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44"/>
          <p:cNvSpPr/>
          <p:nvPr/>
        </p:nvSpPr>
        <p:spPr>
          <a:xfrm flipV="1">
            <a:off x="4403880" y="4766760"/>
            <a:ext cx="50292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5"/>
          <p:cNvSpPr/>
          <p:nvPr/>
        </p:nvSpPr>
        <p:spPr>
          <a:xfrm flipV="1">
            <a:off x="4402080" y="5487480"/>
            <a:ext cx="50328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6"/>
          <p:cNvSpPr/>
          <p:nvPr/>
        </p:nvSpPr>
        <p:spPr>
          <a:xfrm>
            <a:off x="4646520" y="44942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7"/>
          <p:cNvSpPr/>
          <p:nvPr/>
        </p:nvSpPr>
        <p:spPr>
          <a:xfrm>
            <a:off x="457524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8"/>
              <p:cNvSpPr txBox="1"/>
              <p:nvPr/>
            </p:nvSpPr>
            <p:spPr>
              <a:xfrm>
                <a:off x="5424480" y="4719600"/>
                <a:ext cx="900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49"/>
              <p:cNvSpPr txBox="1"/>
              <p:nvPr/>
            </p:nvSpPr>
            <p:spPr>
              <a:xfrm>
                <a:off x="6375240" y="5110200"/>
                <a:ext cx="428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964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ásobení zlomků je jednodušší než sčítání a odčítání zlomků, protože nepotřebujeme převádět zlomky na stejného jmenov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14400" y="5732640"/>
            <a:ext cx="7288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Jinými slovy: není potřeba převádět zlomky na společného jmenovat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2673360" y="2805120"/>
                <a:ext cx="3110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7"/>
              <p:cNvSpPr txBox="1"/>
              <p:nvPr/>
            </p:nvSpPr>
            <p:spPr>
              <a:xfrm>
                <a:off x="3033720" y="215280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8"/>
              <p:cNvSpPr txBox="1"/>
              <p:nvPr/>
            </p:nvSpPr>
            <p:spPr>
              <a:xfrm>
                <a:off x="3610080" y="274644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19"/>
          <p:cNvSpPr/>
          <p:nvPr/>
        </p:nvSpPr>
        <p:spPr>
          <a:xfrm>
            <a:off x="900000" y="4508640"/>
            <a:ext cx="741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i násobení zlomků postupujeme tak, </a:t>
            </a:r>
            <a:br>
              <a:rPr sz="2800"/>
            </a:b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že vynásobíme zvlášť čitatele s čitatelem </a:t>
            </a:r>
            <a:br>
              <a:rPr sz="2800"/>
            </a:b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a jmenovatele s jmenovate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4103640" y="2151000"/>
                <a:ext cx="1763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5"/>
              <p:cNvSpPr txBox="1"/>
              <p:nvPr/>
            </p:nvSpPr>
            <p:spPr>
              <a:xfrm>
                <a:off x="2050920" y="215892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" name="Group 40"/>
          <p:cNvGrpSpPr/>
          <p:nvPr/>
        </p:nvGrpSpPr>
        <p:grpSpPr>
          <a:xfrm>
            <a:off x="2464200" y="3309120"/>
            <a:ext cx="817200" cy="840600"/>
            <a:chOff x="2464200" y="3309120"/>
            <a:chExt cx="817200" cy="840600"/>
          </a:xfrm>
        </p:grpSpPr>
        <p:sp>
          <p:nvSpPr>
            <p:cNvPr id="99" name="Arc 38"/>
            <p:cNvSpPr/>
            <p:nvPr/>
          </p:nvSpPr>
          <p:spPr>
            <a:xfrm rot="8046000">
              <a:off x="2583720" y="342864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"/>
            <p:cNvSpPr/>
            <p:nvPr/>
          </p:nvSpPr>
          <p:spPr>
            <a:xfrm>
              <a:off x="2698560" y="371772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4"/>
          <p:cNvGrpSpPr/>
          <p:nvPr/>
        </p:nvGrpSpPr>
        <p:grpSpPr>
          <a:xfrm>
            <a:off x="2464920" y="1773360"/>
            <a:ext cx="817200" cy="840600"/>
            <a:chOff x="2464920" y="1773360"/>
            <a:chExt cx="817200" cy="840600"/>
          </a:xfrm>
        </p:grpSpPr>
        <p:sp>
          <p:nvSpPr>
            <p:cNvPr id="102" name="Arc 45"/>
            <p:cNvSpPr/>
            <p:nvPr/>
          </p:nvSpPr>
          <p:spPr>
            <a:xfrm rot="18846600">
              <a:off x="2584440" y="191628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6"/>
            <p:cNvSpPr/>
            <p:nvPr/>
          </p:nvSpPr>
          <p:spPr>
            <a:xfrm rot="10800000">
              <a:off x="2687400" y="1773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Object 47"/>
              <p:cNvSpPr txBox="1"/>
              <p:nvPr/>
            </p:nvSpPr>
            <p:spPr>
              <a:xfrm>
                <a:off x="5818320" y="2157480"/>
                <a:ext cx="9856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09680" y="836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ces násobení zlomků a tvorbu výsledného zlomku si můžeme znázornit i graf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81080" y="3789360"/>
          <a:ext cx="2303640" cy="216072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859280" y="3792600"/>
          <a:ext cx="2297160" cy="2171520"/>
        </p:xfrm>
        <a:graphic>
          <a:graphicData uri="http://schemas.openxmlformats.org/drawingml/2006/table">
            <a:tbl>
              <a:tblPr/>
              <a:tblGrid>
                <a:gridCol w="460440"/>
                <a:gridCol w="458640"/>
                <a:gridCol w="459000"/>
                <a:gridCol w="458640"/>
                <a:gridCol w="460440"/>
              </a:tblGrid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Object 93"/>
              <p:cNvSpPr txBox="1"/>
              <p:nvPr/>
            </p:nvSpPr>
            <p:spPr>
              <a:xfrm>
                <a:off x="1306440" y="2427120"/>
                <a:ext cx="3114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4"/>
              <p:cNvSpPr txBox="1"/>
              <p:nvPr/>
            </p:nvSpPr>
            <p:spPr>
              <a:xfrm>
                <a:off x="1666800" y="177480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5"/>
              <p:cNvSpPr txBox="1"/>
              <p:nvPr/>
            </p:nvSpPr>
            <p:spPr>
              <a:xfrm>
                <a:off x="2243160" y="2368440"/>
                <a:ext cx="5191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6"/>
              <p:cNvSpPr txBox="1"/>
              <p:nvPr/>
            </p:nvSpPr>
            <p:spPr>
              <a:xfrm>
                <a:off x="2736720" y="1773360"/>
                <a:ext cx="17640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97"/>
              <p:cNvSpPr txBox="1"/>
              <p:nvPr/>
            </p:nvSpPr>
            <p:spPr>
              <a:xfrm>
                <a:off x="635040" y="176688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8"/>
              <p:cNvSpPr txBox="1"/>
              <p:nvPr/>
            </p:nvSpPr>
            <p:spPr>
              <a:xfrm>
                <a:off x="4451400" y="1779480"/>
                <a:ext cx="9856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AutoShape 99"/>
          <p:cNvSpPr/>
          <p:nvPr/>
        </p:nvSpPr>
        <p:spPr>
          <a:xfrm>
            <a:off x="5508720" y="1700280"/>
            <a:ext cx="2771640" cy="1871640"/>
          </a:xfrm>
          <a:prstGeom prst="cloudCallout">
            <a:avLst>
              <a:gd name="adj1" fmla="val -84305"/>
              <a:gd name="adj2" fmla="val 96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ybarvené obdélníčky určují násobené části cel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0"/>
              <p:cNvSpPr txBox="1"/>
              <p:nvPr/>
            </p:nvSpPr>
            <p:spPr>
              <a:xfrm>
                <a:off x="1332000" y="465300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1"/>
              <p:cNvSpPr txBox="1"/>
              <p:nvPr/>
            </p:nvSpPr>
            <p:spPr>
              <a:xfrm>
                <a:off x="7164360" y="465300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1968480" y="3789360"/>
          <a:ext cx="2316240" cy="2179800"/>
        </p:xfrm>
        <a:graphic>
          <a:graphicData uri="http://schemas.openxmlformats.org/drawingml/2006/table">
            <a:tbl>
              <a:tblPr/>
              <a:tblGrid>
                <a:gridCol w="463680"/>
                <a:gridCol w="463320"/>
                <a:gridCol w="462240"/>
                <a:gridCol w="463320"/>
                <a:gridCol w="4636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AutoShape 102"/>
          <p:cNvSpPr/>
          <p:nvPr/>
        </p:nvSpPr>
        <p:spPr>
          <a:xfrm>
            <a:off x="5508720" y="1844640"/>
            <a:ext cx="3058920" cy="2374920"/>
          </a:xfrm>
          <a:prstGeom prst="cloudCallout">
            <a:avLst>
              <a:gd name="adj1" fmla="val -97740"/>
              <a:gd name="adj2" fmla="val 44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Celkový počet všech obdélníčků určuje jmenovatele výsle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"/>
          <p:cNvSpPr/>
          <p:nvPr/>
        </p:nvSpPr>
        <p:spPr>
          <a:xfrm>
            <a:off x="5435640" y="4221000"/>
            <a:ext cx="2736720" cy="2087640"/>
          </a:xfrm>
          <a:prstGeom prst="cloudCallout">
            <a:avLst>
              <a:gd name="adj1" fmla="val -127263"/>
              <a:gd name="adj2" fmla="val 9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růnik barevných obdélníčků pak čitatele výsle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4798E-006 L -0.31493 -2.94798E-006 E">
                                      <p:cBhvr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ěhem výpočtů je výhodné provádět krácení zlomků, abychom počítali stále s co nejmenšími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871560" y="1916280"/>
                <a:ext cx="18860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Group 12"/>
          <p:cNvGrpSpPr/>
          <p:nvPr/>
        </p:nvGrpSpPr>
        <p:grpSpPr>
          <a:xfrm>
            <a:off x="1138680" y="2877480"/>
            <a:ext cx="817200" cy="840600"/>
            <a:chOff x="1138680" y="2877480"/>
            <a:chExt cx="817200" cy="840600"/>
          </a:xfrm>
        </p:grpSpPr>
        <p:sp>
          <p:nvSpPr>
            <p:cNvPr id="127" name="Arc 13"/>
            <p:cNvSpPr/>
            <p:nvPr/>
          </p:nvSpPr>
          <p:spPr>
            <a:xfrm rot="8046000">
              <a:off x="1258200" y="299700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373040" y="32860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1139400" y="1484280"/>
            <a:ext cx="817200" cy="840600"/>
            <a:chOff x="1139400" y="1484280"/>
            <a:chExt cx="817200" cy="840600"/>
          </a:xfrm>
        </p:grpSpPr>
        <p:sp>
          <p:nvSpPr>
            <p:cNvPr id="130" name="Arc 16"/>
            <p:cNvSpPr/>
            <p:nvPr/>
          </p:nvSpPr>
          <p:spPr>
            <a:xfrm rot="18846600">
              <a:off x="1258920" y="1627200"/>
              <a:ext cx="577800" cy="5778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 rot="10800000">
              <a:off x="1361880" y="14842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2728800" y="1916280"/>
                <a:ext cx="8524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9"/>
              <p:cNvSpPr txBox="1"/>
              <p:nvPr/>
            </p:nvSpPr>
            <p:spPr>
              <a:xfrm>
                <a:off x="3581280" y="1916280"/>
                <a:ext cx="9874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20"/>
          <p:cNvSpPr/>
          <p:nvPr/>
        </p:nvSpPr>
        <p:spPr>
          <a:xfrm>
            <a:off x="3274920" y="1773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27492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4716360" y="3500280"/>
            <a:ext cx="3672000" cy="2665440"/>
          </a:xfrm>
          <a:prstGeom prst="cloudCallout">
            <a:avLst>
              <a:gd name="adj1" fmla="val -92370"/>
              <a:gd name="adj2" fmla="val -58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Protože výsledek není v základním tvaru, uvedeme jej do něj pomocí krácení tzv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nad sebou“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871560" y="4427640"/>
                <a:ext cx="188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4716360" y="2205000"/>
            <a:ext cx="3672000" cy="2665440"/>
          </a:xfrm>
          <a:prstGeom prst="cloudCallout">
            <a:avLst>
              <a:gd name="adj1" fmla="val -116884"/>
              <a:gd name="adj2" fmla="val 50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Při výpočtu můžeme postupovat i jinak, např. krátit ji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v zadání „nad sebou“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V="1">
            <a:off x="1692360" y="45086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1692360" y="52992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1908000" y="429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1908000" y="537228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0"/>
              <p:cNvSpPr txBox="1"/>
              <p:nvPr/>
            </p:nvSpPr>
            <p:spPr>
              <a:xfrm>
                <a:off x="2771640" y="4437000"/>
                <a:ext cx="161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1"/>
              <p:cNvSpPr txBox="1"/>
              <p:nvPr/>
            </p:nvSpPr>
            <p:spPr>
              <a:xfrm>
                <a:off x="4309920" y="4437000"/>
                <a:ext cx="8524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AutoShape 32"/>
          <p:cNvSpPr/>
          <p:nvPr/>
        </p:nvSpPr>
        <p:spPr>
          <a:xfrm>
            <a:off x="5580000" y="2060640"/>
            <a:ext cx="2448000" cy="1727280"/>
          </a:xfrm>
          <a:prstGeom prst="cloudCallout">
            <a:avLst>
              <a:gd name="adj1" fmla="val -83074"/>
              <a:gd name="adj2" fmla="val 84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Výsledný zlomek opět zkrátí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3"/>
              <p:cNvSpPr txBox="1"/>
              <p:nvPr/>
            </p:nvSpPr>
            <p:spPr>
              <a:xfrm>
                <a:off x="5133960" y="4437000"/>
                <a:ext cx="9856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i krácení můžeme využít i druhý způsob krácení zlomků, a to krácení „do kříže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900000" y="2060640"/>
                <a:ext cx="188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2743200" y="2081160"/>
                <a:ext cx="14796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4240080" y="2075040"/>
                <a:ext cx="5842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AutoShape 16"/>
          <p:cNvSpPr/>
          <p:nvPr/>
        </p:nvSpPr>
        <p:spPr>
          <a:xfrm>
            <a:off x="3995640" y="3645000"/>
            <a:ext cx="3745080" cy="2449440"/>
          </a:xfrm>
          <a:prstGeom prst="cloudCallout">
            <a:avLst>
              <a:gd name="adj1" fmla="val -105236"/>
              <a:gd name="adj2" fmla="val -53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</a:rPr>
              <a:t>Uvedený způsob krácení se nazývá „krácení do kříže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928800" y="21178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1720800" y="29084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21608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1965240" y="3068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 flipV="1">
            <a:off x="1720800" y="211788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 flipV="1">
            <a:off x="900000" y="290844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200808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028880" y="3068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826920" y="2060640"/>
            <a:ext cx="1657440" cy="14396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2"/>
          <p:cNvSpPr/>
          <p:nvPr/>
        </p:nvSpPr>
        <p:spPr>
          <a:xfrm flipV="1">
            <a:off x="775800" y="2046600"/>
            <a:ext cx="1631520" cy="14695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826920" y="566100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OZOR! Krátit do kříže lze zlomky pouze při násob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826920" y="4149720"/>
            <a:ext cx="777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Shrnutí:</a:t>
            </a:r>
            <a:br>
              <a:rPr sz="3600"/>
            </a:b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Zlomky můžeme vždy krátit „nad sebou“ a při násobení „do kříže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ěhem výpočtů je výhodné provádět krácení zlomků, abychom počítali stále s co nejmenšími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139920" y="2131920"/>
                <a:ext cx="22021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5327640" y="2131920"/>
                <a:ext cx="5396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Line 9"/>
          <p:cNvSpPr/>
          <p:nvPr/>
        </p:nvSpPr>
        <p:spPr>
          <a:xfrm flipV="1">
            <a:off x="3311640" y="218916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4218120" y="29649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598920" y="191628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35640" y="312588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4262400" y="218916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325680" y="297972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4549680" y="191628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3570120" y="3139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612720" y="4335480"/>
            <a:ext cx="2879640" cy="1297080"/>
          </a:xfrm>
          <a:prstGeom prst="cloudCallout">
            <a:avLst>
              <a:gd name="adj1" fmla="val 39472"/>
              <a:gd name="adj2" fmla="val -116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jdříve zlomky vykrátíme do kří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3828960" y="3284640"/>
            <a:ext cx="216000" cy="288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857760" y="2045880"/>
            <a:ext cx="21564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3684600" y="334152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3800520" y="177336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3348000" y="4870440"/>
            <a:ext cx="2376360" cy="1366920"/>
          </a:xfrm>
          <a:prstGeom prst="cloudCallout">
            <a:avLst>
              <a:gd name="adj1" fmla="val -25884"/>
              <a:gd name="adj2" fmla="val -136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poté ješt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i nad se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5651640" y="3890880"/>
            <a:ext cx="2808000" cy="1440000"/>
          </a:xfrm>
          <a:prstGeom prst="cloudCallout">
            <a:avLst>
              <a:gd name="adj1" fmla="val -71481"/>
              <a:gd name="adj2" fmla="val -93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a závěr vynásobíme čitatele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tože při násobení platí komutativní zákon, můžeme při krácení do kříže krátit vzájemně mezi všemi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1679400" y="2060640"/>
                <a:ext cx="26053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4284720" y="2081160"/>
                <a:ext cx="206352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6310440" y="2075040"/>
                <a:ext cx="85392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Line 9"/>
          <p:cNvSpPr/>
          <p:nvPr/>
        </p:nvSpPr>
        <p:spPr>
          <a:xfrm flipV="1">
            <a:off x="1706400" y="21178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3117960" y="28940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97964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419640" y="305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2354400" y="211788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1692360" y="290844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262728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820880" y="3068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 flipV="1">
            <a:off x="3133800" y="2117880"/>
            <a:ext cx="503280" cy="50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 flipV="1">
            <a:off x="2340000" y="2894040"/>
            <a:ext cx="503280" cy="50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43548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2470320" y="305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611280" y="4292640"/>
            <a:ext cx="3456000" cy="1944720"/>
          </a:xfrm>
          <a:prstGeom prst="cloudCallout">
            <a:avLst>
              <a:gd name="adj1" fmla="val 6546"/>
              <a:gd name="adj2" fmla="val -93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jdříve s výhodou zlomky vykrátíme, abychom předešli počítání s velkými čí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4932360" y="4292640"/>
            <a:ext cx="3456000" cy="1944720"/>
          </a:xfrm>
          <a:prstGeom prst="cloudCallout">
            <a:avLst>
              <a:gd name="adj1" fmla="val -43337"/>
              <a:gd name="adj2" fmla="val -9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té vynásobíme zvlášť čit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zvlášť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25320" y="37180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39720" y="27525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639720" y="5634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654120" y="46688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1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068480" cy="5473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"/>
          <p:cNvPicPr/>
          <p:nvPr/>
        </p:nvPicPr>
        <p:blipFill>
          <a:blip r:embed="rId3"/>
          <a:stretch/>
        </p:blipFill>
        <p:spPr>
          <a:xfrm>
            <a:off x="226836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3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4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7" descr=""/>
          <p:cNvPicPr/>
          <p:nvPr/>
        </p:nvPicPr>
        <p:blipFill>
          <a:blip r:embed="rId4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9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625320" y="37180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639720" y="27525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39720" y="5634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654120" y="46688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7" descr=""/>
          <p:cNvPicPr/>
          <p:nvPr/>
        </p:nvPicPr>
        <p:blipFill>
          <a:blip r:embed="rId2"/>
          <a:stretch/>
        </p:blipFill>
        <p:spPr>
          <a:xfrm>
            <a:off x="1305000" y="932040"/>
            <a:ext cx="1041480" cy="5435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8" descr=""/>
          <p:cNvPicPr/>
          <p:nvPr/>
        </p:nvPicPr>
        <p:blipFill>
          <a:blip r:embed="rId3"/>
          <a:stretch/>
        </p:blipFill>
        <p:spPr>
          <a:xfrm>
            <a:off x="3708360" y="907920"/>
            <a:ext cx="1068480" cy="5473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0" descr=""/>
          <p:cNvPicPr/>
          <p:nvPr/>
        </p:nvPicPr>
        <p:blipFill>
          <a:blip r:embed="rId4"/>
          <a:stretch/>
        </p:blipFill>
        <p:spPr>
          <a:xfrm>
            <a:off x="226836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1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5" descr=""/>
          <p:cNvPicPr/>
          <p:nvPr/>
        </p:nvPicPr>
        <p:blipFill>
          <a:blip r:embed="rId5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"/>
          <p:cNvPicPr/>
          <p:nvPr/>
        </p:nvPicPr>
        <p:blipFill>
          <a:blip r:embed="rId6"/>
          <a:stretch/>
        </p:blipFill>
        <p:spPr>
          <a:xfrm>
            <a:off x="5581800" y="907920"/>
            <a:ext cx="1068120" cy="5473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7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
rozpočtu ČR. Provozováno Výzkumným ústavem pedagogickým v Praze.</dc:description>
  <dc:language>en-US</dc:language>
  <cp:lastModifiedBy>Jana Průšová</cp:lastModifiedBy>
  <dcterms:modified xsi:type="dcterms:W3CDTF">2020-10-12T07:08:57Z</dcterms:modified>
  <cp:revision>263</cp:revision>
  <dc:subject/>
  <dc:title>Zlomky 7 - násobení</dc:title>
</cp:coreProperties>
</file>