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DAD8-05A2-4274-94C2-99A0FBF0619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B302-A246-4065-9D91-4411E5FB37F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0389-395E-4843-AA60-1EF20990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0358-53B8-4C6E-9983-3A45CB5B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91F-0A09-4AB9-98AE-AC36B7E1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CF4C-586B-4B4E-A4F1-7C134BAE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DB15-B7F1-44E3-9634-F0AA32DE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18E8-1A67-4986-8AC0-49C4A82A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9A8C-23E5-46A5-9EC8-561EFAD4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8693-142D-4AED-BA2C-684627E7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6AAE-0BD3-47F8-A0D0-1A91D4DB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AF2B-1E74-4859-B300-FE7C170E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EB9F-EEAD-441E-B1B6-DBA2E6C4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91CD-7CBC-4C26-A3EA-743C16FC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12AC-C530-440B-ACBA-B9DDD03F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145E-C13D-4484-B4E5-A19CBCB6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0949-7F8D-42BA-87EA-CF64D91E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7716-F5B7-4277-83E4-CAA9A667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3E59-0469-4634-A72E-43FA0C61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7A97-1B5D-4DBE-A515-D278CA42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4420-3C1B-4335-9913-2512F233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3F3B-A9DA-4300-8E09-825818A1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25E7-907E-4F14-9385-14D2F5CA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5A1B-F588-4C5F-AA54-71B9851E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3A9F-3E0D-49E4-B5AE-76DFFCA9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56CC-21C1-4E95-8233-8EBDDD18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DEA5-684F-40EF-BD92-46247A43E11B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FD5D-EA27-41B9-96C0-A19A542259A4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284c6a"/>
                </a:solidFill>
                <a:latin typeface="Trebuchet MS"/>
              </a:rPr>
              <a:t>Zlomky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284c6a"/>
                </a:solidFill>
                <a:latin typeface="Trebuchet MS"/>
              </a:rPr>
              <a:t>Rovnost, rozšiřování a krácení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684360" y="2565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7164360" y="1125360"/>
            <a:ext cx="1763640" cy="17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496800" y="907920"/>
            <a:ext cx="81788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Základní tvar zlomk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1541520" y="3929040"/>
                <a:ext cx="1878120" cy="16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Rectangle 5"/>
          <p:cNvSpPr/>
          <p:nvPr/>
        </p:nvSpPr>
        <p:spPr>
          <a:xfrm>
            <a:off x="612720" y="1266840"/>
            <a:ext cx="799164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Do základního tvaru upravujeme zlomky pomocí krácení zlomků.</a:t>
            </a:r>
            <a:br>
              <a:rPr sz="2000"/>
            </a:b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br>
              <a:rPr sz="2400"/>
            </a:b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Zlomek je v základním tvaru, když čitatel </a:t>
            </a:r>
            <a:br>
              <a:rPr sz="2800"/>
            </a:b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i jmenovatel jsou čísla nesoudělná, </a:t>
            </a:r>
            <a:br>
              <a:rPr sz="2800"/>
            </a:b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tzn. nejdou dělit žádným jiným stejným číslem než číslem je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8"/>
          <p:cNvSpPr/>
          <p:nvPr/>
        </p:nvSpPr>
        <p:spPr>
          <a:xfrm>
            <a:off x="2468520" y="416556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9"/>
          <p:cNvSpPr/>
          <p:nvPr/>
        </p:nvSpPr>
        <p:spPr>
          <a:xfrm>
            <a:off x="2641680" y="5056200"/>
            <a:ext cx="603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0"/>
              <p:cNvSpPr txBox="1"/>
              <p:nvPr/>
            </p:nvSpPr>
            <p:spPr>
              <a:xfrm>
                <a:off x="3419640" y="3933720"/>
                <a:ext cx="1503360" cy="16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Rectangle 21"/>
          <p:cNvSpPr/>
          <p:nvPr/>
        </p:nvSpPr>
        <p:spPr>
          <a:xfrm>
            <a:off x="4167360" y="4178160"/>
            <a:ext cx="603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2"/>
          <p:cNvSpPr/>
          <p:nvPr/>
        </p:nvSpPr>
        <p:spPr>
          <a:xfrm>
            <a:off x="4181400" y="506880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23"/>
              <p:cNvSpPr txBox="1"/>
              <p:nvPr/>
            </p:nvSpPr>
            <p:spPr>
              <a:xfrm>
                <a:off x="4940280" y="3933720"/>
                <a:ext cx="1503360" cy="16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Rectangle 24"/>
          <p:cNvSpPr/>
          <p:nvPr/>
        </p:nvSpPr>
        <p:spPr>
          <a:xfrm>
            <a:off x="5722920" y="416412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5"/>
          <p:cNvSpPr/>
          <p:nvPr/>
        </p:nvSpPr>
        <p:spPr>
          <a:xfrm>
            <a:off x="5753160" y="507348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26"/>
              <p:cNvSpPr txBox="1"/>
              <p:nvPr/>
            </p:nvSpPr>
            <p:spPr>
              <a:xfrm>
                <a:off x="6411960" y="3933720"/>
                <a:ext cx="966600" cy="16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0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96800" y="98100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2016360" cy="187164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4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Krácení a rozšiřování zlomků - shrnut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755640" y="5589720"/>
            <a:ext cx="770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0000"/>
                </a:solidFill>
                <a:latin typeface="Trebuchet MS"/>
              </a:rPr>
              <a:t>Rozšiřování zlomků je násobení čitatele </a:t>
            </a:r>
            <a:br>
              <a:rPr sz="2700"/>
            </a:br>
            <a:r>
              <a:rPr b="1" lang="cs-CZ" sz="2700" spc="-1" strike="noStrike">
                <a:solidFill>
                  <a:srgbClr val="ff0000"/>
                </a:solidFill>
                <a:latin typeface="Trebuchet MS"/>
              </a:rPr>
              <a:t>i jmenovatele stejným číslem různým od nul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132000" y="2781360"/>
            <a:ext cx="540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0000"/>
                </a:solidFill>
                <a:latin typeface="Trebuchet MS"/>
              </a:rPr>
              <a:t>Krácení zlomků je dělení čitatele i jmenovatele stejným číslem různým od nul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13"/>
              <p:cNvSpPr txBox="1"/>
              <p:nvPr/>
            </p:nvSpPr>
            <p:spPr>
              <a:xfrm>
                <a:off x="4052880" y="1125360"/>
                <a:ext cx="169848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Rectangle 14"/>
          <p:cNvSpPr/>
          <p:nvPr/>
        </p:nvSpPr>
        <p:spPr>
          <a:xfrm>
            <a:off x="5062680" y="1298520"/>
            <a:ext cx="603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5064120" y="210816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16"/>
              <p:cNvSpPr txBox="1"/>
              <p:nvPr/>
            </p:nvSpPr>
            <p:spPr>
              <a:xfrm>
                <a:off x="5724360" y="1125360"/>
                <a:ext cx="135756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Rectangle 17"/>
          <p:cNvSpPr/>
          <p:nvPr/>
        </p:nvSpPr>
        <p:spPr>
          <a:xfrm>
            <a:off x="6389640" y="129852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6378480" y="210492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22"/>
              <p:cNvSpPr txBox="1"/>
              <p:nvPr/>
            </p:nvSpPr>
            <p:spPr>
              <a:xfrm>
                <a:off x="7040520" y="1125360"/>
                <a:ext cx="63036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24"/>
              <p:cNvSpPr txBox="1"/>
              <p:nvPr/>
            </p:nvSpPr>
            <p:spPr>
              <a:xfrm>
                <a:off x="4175280" y="3960720"/>
                <a:ext cx="106812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Rectangle 25"/>
          <p:cNvSpPr/>
          <p:nvPr/>
        </p:nvSpPr>
        <p:spPr>
          <a:xfrm>
            <a:off x="4552920" y="413388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4554360" y="494352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27"/>
              <p:cNvSpPr txBox="1"/>
              <p:nvPr/>
            </p:nvSpPr>
            <p:spPr>
              <a:xfrm>
                <a:off x="5200560" y="3960720"/>
                <a:ext cx="135756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Rectangle 28"/>
          <p:cNvSpPr/>
          <p:nvPr/>
        </p:nvSpPr>
        <p:spPr>
          <a:xfrm>
            <a:off x="5743440" y="413388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9"/>
          <p:cNvSpPr/>
          <p:nvPr/>
        </p:nvSpPr>
        <p:spPr>
          <a:xfrm>
            <a:off x="5850000" y="495468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30"/>
              <p:cNvSpPr txBox="1"/>
              <p:nvPr/>
            </p:nvSpPr>
            <p:spPr>
              <a:xfrm>
                <a:off x="6515280" y="3960720"/>
                <a:ext cx="121104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468360" y="1700280"/>
            <a:ext cx="813600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Zlom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68360" y="765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louží k vyjádření části cel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468360" y="1125360"/>
            <a:ext cx="85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Rozdělíme-li celek na části, dostaneme zlom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1" descr=""/>
          <p:cNvPicPr/>
          <p:nvPr/>
        </p:nvPicPr>
        <p:blipFill>
          <a:blip r:embed="rId1"/>
          <a:stretch/>
        </p:blipFill>
        <p:spPr>
          <a:xfrm>
            <a:off x="3346560" y="206064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4" descr=""/>
          <p:cNvPicPr/>
          <p:nvPr/>
        </p:nvPicPr>
        <p:blipFill>
          <a:blip r:embed="rId2"/>
          <a:stretch/>
        </p:blipFill>
        <p:spPr>
          <a:xfrm>
            <a:off x="3346560" y="206064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5" descr=""/>
          <p:cNvPicPr/>
          <p:nvPr/>
        </p:nvPicPr>
        <p:blipFill>
          <a:blip r:embed="rId3"/>
          <a:stretch/>
        </p:blipFill>
        <p:spPr>
          <a:xfrm>
            <a:off x="3346560" y="206064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33"/>
          <p:cNvSpPr/>
          <p:nvPr/>
        </p:nvSpPr>
        <p:spPr>
          <a:xfrm>
            <a:off x="826920" y="4581360"/>
            <a:ext cx="2737080" cy="1513080"/>
          </a:xfrm>
          <a:prstGeom prst="cloudCallout">
            <a:avLst>
              <a:gd name="adj1" fmla="val 51912"/>
              <a:gd name="adj2" fmla="val -88194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kruh – jeden cel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7"/>
          <p:cNvSpPr/>
          <p:nvPr/>
        </p:nvSpPr>
        <p:spPr>
          <a:xfrm>
            <a:off x="4859280" y="4437000"/>
            <a:ext cx="3529080" cy="1800360"/>
          </a:xfrm>
          <a:prstGeom prst="cloudCallout">
            <a:avLst>
              <a:gd name="adj1" fmla="val -32861"/>
              <a:gd name="adj2" fmla="val -80689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Kruh jsme rozdělili na čtyři stejné části – čtvrti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4"/>
          <p:cNvSpPr/>
          <p:nvPr/>
        </p:nvSpPr>
        <p:spPr>
          <a:xfrm>
            <a:off x="755640" y="1844640"/>
            <a:ext cx="1728720" cy="1368360"/>
          </a:xfrm>
          <a:prstGeom prst="cloudCallout">
            <a:avLst>
              <a:gd name="adj1" fmla="val 105648"/>
              <a:gd name="adj2" fmla="val 100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jedna čtvr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8"/>
          <p:cNvSpPr/>
          <p:nvPr/>
        </p:nvSpPr>
        <p:spPr>
          <a:xfrm>
            <a:off x="6588000" y="1916280"/>
            <a:ext cx="1729080" cy="1368360"/>
          </a:xfrm>
          <a:prstGeom prst="cloudCallout">
            <a:avLst>
              <a:gd name="adj1" fmla="val -112532"/>
              <a:gd name="adj2" fmla="val 47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tři čtvrt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9"/>
              <p:cNvSpPr txBox="1"/>
              <p:nvPr/>
            </p:nvSpPr>
            <p:spPr>
              <a:xfrm>
                <a:off x="1168560" y="3284640"/>
                <a:ext cx="117144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54"/>
              <p:cNvSpPr txBox="1"/>
              <p:nvPr/>
            </p:nvSpPr>
            <p:spPr>
              <a:xfrm>
                <a:off x="6856560" y="3284640"/>
                <a:ext cx="117144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68360" y="1413000"/>
            <a:ext cx="8136000" cy="49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Zápis zlom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765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Matematický zápis zlomku tvoří tři čá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2"/>
          <p:cNvSpPr/>
          <p:nvPr/>
        </p:nvSpPr>
        <p:spPr>
          <a:xfrm>
            <a:off x="3995640" y="1700280"/>
            <a:ext cx="1728720" cy="1368360"/>
          </a:xfrm>
          <a:prstGeom prst="cloudCallout">
            <a:avLst>
              <a:gd name="adj1" fmla="val -116759"/>
              <a:gd name="adj2" fmla="val 58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tři čtvrt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4"/>
              <p:cNvSpPr txBox="1"/>
              <p:nvPr/>
            </p:nvSpPr>
            <p:spPr>
              <a:xfrm>
                <a:off x="2608200" y="2637000"/>
                <a:ext cx="117180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AutoShape 16"/>
          <p:cNvSpPr/>
          <p:nvPr/>
        </p:nvSpPr>
        <p:spPr>
          <a:xfrm>
            <a:off x="5221440" y="3141720"/>
            <a:ext cx="2950920" cy="1368360"/>
          </a:xfrm>
          <a:prstGeom prst="cloudCallout">
            <a:avLst>
              <a:gd name="adj1" fmla="val -101750"/>
              <a:gd name="adj2" fmla="val 1624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zlomková čá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5076720" y="1557360"/>
            <a:ext cx="2951280" cy="1440000"/>
          </a:xfrm>
          <a:prstGeom prst="cloudCallout">
            <a:avLst>
              <a:gd name="adj1" fmla="val -101319"/>
              <a:gd name="adj2" fmla="val 63231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čita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(vyjadřuje počet díl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5003640" y="4710240"/>
            <a:ext cx="3095640" cy="1584360"/>
          </a:xfrm>
          <a:prstGeom prst="cloudCallout">
            <a:avLst>
              <a:gd name="adj1" fmla="val -94717"/>
              <a:gd name="adj2" fmla="val -46092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jmenova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(vyjadřuje, na kolik dílů je celek rozdě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3851280" y="2924280"/>
            <a:ext cx="45356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Tři (stejné) díly ze čtyř (stejných) dílů, tj. tři čtvrtiny.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468360" y="1125360"/>
            <a:ext cx="8207280" cy="518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247840" y="2637000"/>
            <a:ext cx="1176480" cy="1191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665280" y="1413000"/>
            <a:ext cx="1162080" cy="1206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3"/>
          <a:stretch/>
        </p:blipFill>
        <p:spPr>
          <a:xfrm>
            <a:off x="7118280" y="1413000"/>
            <a:ext cx="1181160" cy="1206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4"/>
          <a:stretch/>
        </p:blipFill>
        <p:spPr>
          <a:xfrm>
            <a:off x="5651640" y="2584440"/>
            <a:ext cx="1162080" cy="11923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8"/>
          <p:cNvSpPr/>
          <p:nvPr/>
        </p:nvSpPr>
        <p:spPr>
          <a:xfrm>
            <a:off x="438120" y="476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Zápis celku zlomk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9"/>
              <p:cNvSpPr txBox="1"/>
              <p:nvPr/>
            </p:nvSpPr>
            <p:spPr>
              <a:xfrm>
                <a:off x="1746360" y="2076480"/>
                <a:ext cx="2808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0"/>
              <p:cNvSpPr txBox="1"/>
              <p:nvPr/>
            </p:nvSpPr>
            <p:spPr>
              <a:xfrm>
                <a:off x="6783480" y="3200400"/>
                <a:ext cx="2365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6" name="Picture 11" descr=""/>
          <p:cNvPicPr/>
          <p:nvPr/>
        </p:nvPicPr>
        <p:blipFill>
          <a:blip r:embed="rId5"/>
          <a:stretch/>
        </p:blipFill>
        <p:spPr>
          <a:xfrm>
            <a:off x="3881520" y="1459080"/>
            <a:ext cx="1171440" cy="1191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" name="Object 12"/>
              <p:cNvSpPr txBox="1"/>
              <p:nvPr/>
            </p:nvSpPr>
            <p:spPr>
              <a:xfrm>
                <a:off x="8228160" y="2076480"/>
                <a:ext cx="3045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3"/>
              <p:cNvSpPr txBox="1"/>
              <p:nvPr/>
            </p:nvSpPr>
            <p:spPr>
              <a:xfrm>
                <a:off x="5030640" y="2075040"/>
                <a:ext cx="2826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4"/>
              <p:cNvSpPr txBox="1"/>
              <p:nvPr/>
            </p:nvSpPr>
            <p:spPr>
              <a:xfrm>
                <a:off x="3365640" y="3255840"/>
                <a:ext cx="399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Rectangle 16"/>
          <p:cNvSpPr/>
          <p:nvPr/>
        </p:nvSpPr>
        <p:spPr>
          <a:xfrm>
            <a:off x="684360" y="414972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šech pět příkladů vyjadřuje jeden celek, byť v každém z nich je tento celek zapsán pomocí jiného zlom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684360" y="5272200"/>
            <a:ext cx="7920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Z toho plyne, že obdobně i jakoukoliv část celku lze zapsat pomocí mnoha tvarů zlomků, které se však sobě rovnají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496800" y="907920"/>
            <a:ext cx="81788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Rovnost zlomk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9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2247840" cy="2305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0" descr=""/>
          <p:cNvPicPr/>
          <p:nvPr/>
        </p:nvPicPr>
        <p:blipFill>
          <a:blip r:embed="rId2"/>
          <a:stretch/>
        </p:blipFill>
        <p:spPr>
          <a:xfrm>
            <a:off x="3419640" y="1125360"/>
            <a:ext cx="2276280" cy="2276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1" descr=""/>
          <p:cNvPicPr/>
          <p:nvPr/>
        </p:nvPicPr>
        <p:blipFill>
          <a:blip r:embed="rId3"/>
          <a:stretch/>
        </p:blipFill>
        <p:spPr>
          <a:xfrm>
            <a:off x="6227640" y="1125360"/>
            <a:ext cx="2305080" cy="2343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2" descr=""/>
          <p:cNvPicPr/>
          <p:nvPr/>
        </p:nvPicPr>
        <p:blipFill>
          <a:blip r:embed="rId4"/>
          <a:stretch/>
        </p:blipFill>
        <p:spPr>
          <a:xfrm>
            <a:off x="755640" y="3716280"/>
            <a:ext cx="2295360" cy="2343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3" descr=""/>
          <p:cNvPicPr/>
          <p:nvPr/>
        </p:nvPicPr>
        <p:blipFill>
          <a:blip r:embed="rId5"/>
          <a:stretch/>
        </p:blipFill>
        <p:spPr>
          <a:xfrm>
            <a:off x="3419640" y="3789360"/>
            <a:ext cx="2304720" cy="2314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4" descr=""/>
          <p:cNvPicPr/>
          <p:nvPr/>
        </p:nvPicPr>
        <p:blipFill>
          <a:blip r:embed="rId6"/>
          <a:stretch/>
        </p:blipFill>
        <p:spPr>
          <a:xfrm>
            <a:off x="6242040" y="3789360"/>
            <a:ext cx="2247840" cy="232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0" name="Object 78"/>
              <p:cNvSpPr txBox="1"/>
              <p:nvPr/>
            </p:nvSpPr>
            <p:spPr>
              <a:xfrm>
                <a:off x="5032440" y="2247840"/>
                <a:ext cx="59364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79"/>
              <p:cNvSpPr txBox="1"/>
              <p:nvPr/>
            </p:nvSpPr>
            <p:spPr>
              <a:xfrm>
                <a:off x="7718400" y="2247840"/>
                <a:ext cx="89064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80"/>
              <p:cNvSpPr txBox="1"/>
              <p:nvPr/>
            </p:nvSpPr>
            <p:spPr>
              <a:xfrm>
                <a:off x="2195640" y="4861080"/>
                <a:ext cx="88884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82"/>
              <p:cNvSpPr txBox="1"/>
              <p:nvPr/>
            </p:nvSpPr>
            <p:spPr>
              <a:xfrm>
                <a:off x="4753080" y="4897440"/>
                <a:ext cx="93816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83"/>
              <p:cNvSpPr txBox="1"/>
              <p:nvPr/>
            </p:nvSpPr>
            <p:spPr>
              <a:xfrm>
                <a:off x="7523280" y="4889520"/>
                <a:ext cx="93816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88"/>
              <p:cNvSpPr txBox="1"/>
              <p:nvPr/>
            </p:nvSpPr>
            <p:spPr>
              <a:xfrm>
                <a:off x="2255760" y="2233440"/>
                <a:ext cx="660600" cy="15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6" name="Rectangle 84"/>
          <p:cNvSpPr/>
          <p:nvPr/>
        </p:nvSpPr>
        <p:spPr>
          <a:xfrm>
            <a:off x="884160" y="1989000"/>
            <a:ext cx="7561440" cy="338472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85"/>
              <p:cNvSpPr txBox="1"/>
              <p:nvPr/>
            </p:nvSpPr>
            <p:spPr>
              <a:xfrm>
                <a:off x="898560" y="2911320"/>
                <a:ext cx="7561080" cy="16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496800" y="865080"/>
            <a:ext cx="81788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Rozšiřování zlomk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9"/>
              <p:cNvSpPr txBox="1"/>
              <p:nvPr/>
            </p:nvSpPr>
            <p:spPr>
              <a:xfrm>
                <a:off x="826920" y="3254400"/>
                <a:ext cx="7561440" cy="16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Rectangle 20"/>
          <p:cNvSpPr/>
          <p:nvPr/>
        </p:nvSpPr>
        <p:spPr>
          <a:xfrm>
            <a:off x="684360" y="1052640"/>
            <a:ext cx="7920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Hodnota zlomku se nezmění, pokud čitatele i jmenovatele zlomku vynásobíme stejným číslem různým od nuly. </a:t>
            </a:r>
            <a:br>
              <a:rPr sz="2000"/>
            </a:b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Hovoříme o rozšiřování zlomk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1"/>
          <p:cNvSpPr/>
          <p:nvPr/>
        </p:nvSpPr>
        <p:spPr>
          <a:xfrm>
            <a:off x="1258920" y="3043080"/>
            <a:ext cx="1009440" cy="21600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2"/>
          <p:cNvSpPr/>
          <p:nvPr/>
        </p:nvSpPr>
        <p:spPr>
          <a:xfrm>
            <a:off x="1519200" y="2682720"/>
            <a:ext cx="4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23"/>
          <p:cNvSpPr/>
          <p:nvPr/>
        </p:nvSpPr>
        <p:spPr>
          <a:xfrm rot="10800000">
            <a:off x="1258920" y="4843440"/>
            <a:ext cx="1009440" cy="21600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1533600" y="4987800"/>
            <a:ext cx="43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25"/>
          <p:cNvSpPr/>
          <p:nvPr/>
        </p:nvSpPr>
        <p:spPr>
          <a:xfrm>
            <a:off x="3519360" y="3041640"/>
            <a:ext cx="4292640" cy="21744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6"/>
          <p:cNvSpPr/>
          <p:nvPr/>
        </p:nvSpPr>
        <p:spPr>
          <a:xfrm>
            <a:off x="5479920" y="2682720"/>
            <a:ext cx="4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8"/>
          <p:cNvSpPr/>
          <p:nvPr/>
        </p:nvSpPr>
        <p:spPr>
          <a:xfrm>
            <a:off x="5494320" y="505944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29"/>
          <p:cNvSpPr/>
          <p:nvPr/>
        </p:nvSpPr>
        <p:spPr>
          <a:xfrm rot="10800000">
            <a:off x="3521160" y="4913280"/>
            <a:ext cx="4292640" cy="21744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0"/>
          <p:cNvSpPr/>
          <p:nvPr/>
        </p:nvSpPr>
        <p:spPr>
          <a:xfrm>
            <a:off x="2409840" y="3070080"/>
            <a:ext cx="1009800" cy="21600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1"/>
          <p:cNvSpPr/>
          <p:nvPr/>
        </p:nvSpPr>
        <p:spPr>
          <a:xfrm>
            <a:off x="2556000" y="2711520"/>
            <a:ext cx="79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.1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2"/>
          <p:cNvSpPr/>
          <p:nvPr/>
        </p:nvSpPr>
        <p:spPr>
          <a:xfrm rot="10800000">
            <a:off x="2409480" y="4870440"/>
            <a:ext cx="1009800" cy="21600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3"/>
          <p:cNvSpPr/>
          <p:nvPr/>
        </p:nvSpPr>
        <p:spPr>
          <a:xfrm>
            <a:off x="2556000" y="5014800"/>
            <a:ext cx="79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.1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4"/>
          <p:cNvSpPr/>
          <p:nvPr/>
        </p:nvSpPr>
        <p:spPr>
          <a:xfrm>
            <a:off x="1244520" y="2900520"/>
            <a:ext cx="2219400" cy="34416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5"/>
          <p:cNvSpPr/>
          <p:nvPr/>
        </p:nvSpPr>
        <p:spPr>
          <a:xfrm>
            <a:off x="2109960" y="2395440"/>
            <a:ext cx="94932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7"/>
          <p:cNvSpPr/>
          <p:nvPr/>
        </p:nvSpPr>
        <p:spPr>
          <a:xfrm>
            <a:off x="2081160" y="5160960"/>
            <a:ext cx="4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38"/>
          <p:cNvSpPr/>
          <p:nvPr/>
        </p:nvSpPr>
        <p:spPr>
          <a:xfrm rot="10800000">
            <a:off x="1215720" y="4888080"/>
            <a:ext cx="2219400" cy="34416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39"/>
          <p:cNvSpPr/>
          <p:nvPr/>
        </p:nvSpPr>
        <p:spPr>
          <a:xfrm>
            <a:off x="1216080" y="2583000"/>
            <a:ext cx="3716280" cy="71892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0"/>
          <p:cNvSpPr/>
          <p:nvPr/>
        </p:nvSpPr>
        <p:spPr>
          <a:xfrm>
            <a:off x="2860560" y="213516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1"/>
          <p:cNvSpPr/>
          <p:nvPr/>
        </p:nvSpPr>
        <p:spPr>
          <a:xfrm rot="10800000">
            <a:off x="1230120" y="4843440"/>
            <a:ext cx="3716280" cy="71928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2"/>
          <p:cNvSpPr/>
          <p:nvPr/>
        </p:nvSpPr>
        <p:spPr>
          <a:xfrm>
            <a:off x="2874960" y="541980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43"/>
          <p:cNvSpPr/>
          <p:nvPr/>
        </p:nvSpPr>
        <p:spPr>
          <a:xfrm>
            <a:off x="2282760" y="2583000"/>
            <a:ext cx="5529240" cy="71892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4"/>
          <p:cNvSpPr/>
          <p:nvPr/>
        </p:nvSpPr>
        <p:spPr>
          <a:xfrm>
            <a:off x="4859280" y="2135160"/>
            <a:ext cx="8971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45"/>
          <p:cNvSpPr/>
          <p:nvPr/>
        </p:nvSpPr>
        <p:spPr>
          <a:xfrm rot="10800000">
            <a:off x="2282400" y="4871880"/>
            <a:ext cx="5529240" cy="71928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6"/>
          <p:cNvSpPr/>
          <p:nvPr/>
        </p:nvSpPr>
        <p:spPr>
          <a:xfrm>
            <a:off x="4859280" y="5494320"/>
            <a:ext cx="8971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47"/>
          <p:cNvSpPr/>
          <p:nvPr/>
        </p:nvSpPr>
        <p:spPr>
          <a:xfrm>
            <a:off x="1201680" y="2597040"/>
            <a:ext cx="6640560" cy="71928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8"/>
          <p:cNvSpPr/>
          <p:nvPr/>
        </p:nvSpPr>
        <p:spPr>
          <a:xfrm>
            <a:off x="4265640" y="2149560"/>
            <a:ext cx="1098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49"/>
          <p:cNvSpPr/>
          <p:nvPr/>
        </p:nvSpPr>
        <p:spPr>
          <a:xfrm rot="10800000">
            <a:off x="1187280" y="4899960"/>
            <a:ext cx="6640560" cy="71892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0"/>
          <p:cNvSpPr/>
          <p:nvPr/>
        </p:nvSpPr>
        <p:spPr>
          <a:xfrm>
            <a:off x="4255920" y="5519880"/>
            <a:ext cx="10987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496800" y="907920"/>
            <a:ext cx="81788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Rovnost zlomk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2343240" cy="2333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2"/>
          <a:stretch/>
        </p:blipFill>
        <p:spPr>
          <a:xfrm>
            <a:off x="4292640" y="1125360"/>
            <a:ext cx="2295360" cy="2324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"/>
          <p:cNvPicPr/>
          <p:nvPr/>
        </p:nvPicPr>
        <p:blipFill>
          <a:blip r:embed="rId3"/>
          <a:stretch/>
        </p:blipFill>
        <p:spPr>
          <a:xfrm>
            <a:off x="2382840" y="3573360"/>
            <a:ext cx="2333520" cy="2219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"/>
          <p:cNvPicPr/>
          <p:nvPr/>
        </p:nvPicPr>
        <p:blipFill>
          <a:blip r:embed="rId4"/>
          <a:stretch/>
        </p:blipFill>
        <p:spPr>
          <a:xfrm>
            <a:off x="5983200" y="3514680"/>
            <a:ext cx="2333880" cy="2286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6" name="Object 11"/>
              <p:cNvSpPr txBox="1"/>
              <p:nvPr/>
            </p:nvSpPr>
            <p:spPr>
              <a:xfrm>
                <a:off x="2065320" y="2349360"/>
                <a:ext cx="8780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3"/>
              <p:cNvSpPr txBox="1"/>
              <p:nvPr/>
            </p:nvSpPr>
            <p:spPr>
              <a:xfrm>
                <a:off x="5651640" y="2349360"/>
                <a:ext cx="8776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4"/>
              <p:cNvSpPr txBox="1"/>
              <p:nvPr/>
            </p:nvSpPr>
            <p:spPr>
              <a:xfrm>
                <a:off x="3851280" y="4797360"/>
                <a:ext cx="5857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5"/>
              <p:cNvSpPr txBox="1"/>
              <p:nvPr/>
            </p:nvSpPr>
            <p:spPr>
              <a:xfrm>
                <a:off x="7418520" y="4797360"/>
                <a:ext cx="6332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Rectangle 16"/>
          <p:cNvSpPr/>
          <p:nvPr/>
        </p:nvSpPr>
        <p:spPr>
          <a:xfrm>
            <a:off x="826920" y="1989000"/>
            <a:ext cx="7561440" cy="338472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7"/>
              <p:cNvSpPr txBox="1"/>
              <p:nvPr/>
            </p:nvSpPr>
            <p:spPr>
              <a:xfrm>
                <a:off x="2289240" y="2911320"/>
                <a:ext cx="4665600" cy="16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496800" y="907920"/>
            <a:ext cx="81788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Krácení zlomk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3"/>
              <p:cNvSpPr txBox="1"/>
              <p:nvPr/>
            </p:nvSpPr>
            <p:spPr>
              <a:xfrm>
                <a:off x="2268360" y="3137040"/>
                <a:ext cx="4665960" cy="16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Rectangle 15"/>
          <p:cNvSpPr/>
          <p:nvPr/>
        </p:nvSpPr>
        <p:spPr>
          <a:xfrm>
            <a:off x="684360" y="1052640"/>
            <a:ext cx="7920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Hodnota zlomku se nezmění, pokud čitatele i jmenovatele zlomku vydělíme stejným číslem různým od nuly. </a:t>
            </a:r>
            <a:br>
              <a:rPr sz="2000"/>
            </a:b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Hovoříme o krácení zlomk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6"/>
          <p:cNvSpPr/>
          <p:nvPr/>
        </p:nvSpPr>
        <p:spPr>
          <a:xfrm>
            <a:off x="2786040" y="2465280"/>
            <a:ext cx="3716280" cy="71928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7"/>
          <p:cNvSpPr/>
          <p:nvPr/>
        </p:nvSpPr>
        <p:spPr>
          <a:xfrm>
            <a:off x="4430880" y="2017800"/>
            <a:ext cx="603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8"/>
          <p:cNvSpPr/>
          <p:nvPr/>
        </p:nvSpPr>
        <p:spPr>
          <a:xfrm rot="10800000">
            <a:off x="2800080" y="4725720"/>
            <a:ext cx="3716280" cy="71892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9"/>
          <p:cNvSpPr/>
          <p:nvPr/>
        </p:nvSpPr>
        <p:spPr>
          <a:xfrm>
            <a:off x="4444920" y="530208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0"/>
          <p:cNvSpPr/>
          <p:nvPr/>
        </p:nvSpPr>
        <p:spPr>
          <a:xfrm>
            <a:off x="3909960" y="2338560"/>
            <a:ext cx="51768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22"/>
          <p:cNvSpPr/>
          <p:nvPr/>
        </p:nvSpPr>
        <p:spPr>
          <a:xfrm>
            <a:off x="2786040" y="2852640"/>
            <a:ext cx="2649600" cy="34452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3"/>
          <p:cNvSpPr/>
          <p:nvPr/>
        </p:nvSpPr>
        <p:spPr>
          <a:xfrm>
            <a:off x="3909960" y="4911840"/>
            <a:ext cx="5176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4"/>
          <p:cNvSpPr/>
          <p:nvPr/>
        </p:nvSpPr>
        <p:spPr>
          <a:xfrm rot="10800000">
            <a:off x="2801880" y="4738320"/>
            <a:ext cx="2649600" cy="34452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5"/>
          <p:cNvSpPr/>
          <p:nvPr/>
        </p:nvSpPr>
        <p:spPr>
          <a:xfrm>
            <a:off x="5262480" y="2349360"/>
            <a:ext cx="4780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6"/>
          <p:cNvSpPr/>
          <p:nvPr/>
        </p:nvSpPr>
        <p:spPr>
          <a:xfrm>
            <a:off x="4138560" y="2863800"/>
            <a:ext cx="2449440" cy="34452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7"/>
          <p:cNvSpPr/>
          <p:nvPr/>
        </p:nvSpPr>
        <p:spPr>
          <a:xfrm>
            <a:off x="5262480" y="4923000"/>
            <a:ext cx="47808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28"/>
          <p:cNvSpPr/>
          <p:nvPr/>
        </p:nvSpPr>
        <p:spPr>
          <a:xfrm rot="10800000">
            <a:off x="4154400" y="4749480"/>
            <a:ext cx="2449440" cy="34452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96800" y="907920"/>
            <a:ext cx="81788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Krácení zlomk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84360" y="1195560"/>
            <a:ext cx="66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rátit zlomek můžeme několika různými způsoby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(následují tři z nic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8"/>
              <p:cNvSpPr txBox="1"/>
              <p:nvPr/>
            </p:nvSpPr>
            <p:spPr>
              <a:xfrm>
                <a:off x="2411280" y="2233440"/>
                <a:ext cx="135900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Rectangle 20"/>
          <p:cNvSpPr/>
          <p:nvPr/>
        </p:nvSpPr>
        <p:spPr>
          <a:xfrm>
            <a:off x="3073320" y="240660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3075120" y="3216240"/>
            <a:ext cx="603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22"/>
              <p:cNvSpPr txBox="1"/>
              <p:nvPr/>
            </p:nvSpPr>
            <p:spPr>
              <a:xfrm>
                <a:off x="3706920" y="2233440"/>
                <a:ext cx="140652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Rectangle 23"/>
          <p:cNvSpPr/>
          <p:nvPr/>
        </p:nvSpPr>
        <p:spPr>
          <a:xfrm>
            <a:off x="4397400" y="240660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4"/>
          <p:cNvSpPr/>
          <p:nvPr/>
        </p:nvSpPr>
        <p:spPr>
          <a:xfrm>
            <a:off x="4386240" y="321300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27"/>
              <p:cNvSpPr txBox="1"/>
              <p:nvPr/>
            </p:nvSpPr>
            <p:spPr>
              <a:xfrm>
                <a:off x="5132520" y="2233440"/>
                <a:ext cx="135864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Rectangle 28"/>
          <p:cNvSpPr/>
          <p:nvPr/>
        </p:nvSpPr>
        <p:spPr>
          <a:xfrm>
            <a:off x="5794200" y="240660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9"/>
          <p:cNvSpPr/>
          <p:nvPr/>
        </p:nvSpPr>
        <p:spPr>
          <a:xfrm>
            <a:off x="5783400" y="3213000"/>
            <a:ext cx="603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30"/>
              <p:cNvSpPr txBox="1"/>
              <p:nvPr/>
            </p:nvSpPr>
            <p:spPr>
              <a:xfrm>
                <a:off x="6443640" y="2233440"/>
                <a:ext cx="58104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31"/>
              <p:cNvSpPr txBox="1"/>
              <p:nvPr/>
            </p:nvSpPr>
            <p:spPr>
              <a:xfrm>
                <a:off x="1177920" y="4321080"/>
                <a:ext cx="135900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Rectangle 32"/>
          <p:cNvSpPr/>
          <p:nvPr/>
        </p:nvSpPr>
        <p:spPr>
          <a:xfrm>
            <a:off x="1839960" y="449424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3"/>
          <p:cNvSpPr/>
          <p:nvPr/>
        </p:nvSpPr>
        <p:spPr>
          <a:xfrm>
            <a:off x="1841400" y="5345280"/>
            <a:ext cx="60336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34"/>
              <p:cNvSpPr txBox="1"/>
              <p:nvPr/>
            </p:nvSpPr>
            <p:spPr>
              <a:xfrm>
                <a:off x="2550960" y="4321080"/>
                <a:ext cx="101772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Rectangle 35"/>
          <p:cNvSpPr/>
          <p:nvPr/>
        </p:nvSpPr>
        <p:spPr>
          <a:xfrm>
            <a:off x="2897280" y="4494240"/>
            <a:ext cx="603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6"/>
          <p:cNvSpPr/>
          <p:nvPr/>
        </p:nvSpPr>
        <p:spPr>
          <a:xfrm>
            <a:off x="2898720" y="5345280"/>
            <a:ext cx="60336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40"/>
              <p:cNvSpPr txBox="1"/>
              <p:nvPr/>
            </p:nvSpPr>
            <p:spPr>
              <a:xfrm>
                <a:off x="3559320" y="4321080"/>
                <a:ext cx="58104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41"/>
              <p:cNvSpPr txBox="1"/>
              <p:nvPr/>
            </p:nvSpPr>
            <p:spPr>
              <a:xfrm>
                <a:off x="6237360" y="4321080"/>
                <a:ext cx="135900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Rectangle 42"/>
          <p:cNvSpPr/>
          <p:nvPr/>
        </p:nvSpPr>
        <p:spPr>
          <a:xfrm>
            <a:off x="6915240" y="4494240"/>
            <a:ext cx="603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3"/>
          <p:cNvSpPr/>
          <p:nvPr/>
        </p:nvSpPr>
        <p:spPr>
          <a:xfrm>
            <a:off x="6916680" y="533232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50"/>
              <p:cNvSpPr txBox="1"/>
              <p:nvPr/>
            </p:nvSpPr>
            <p:spPr>
              <a:xfrm>
                <a:off x="7662960" y="4321080"/>
                <a:ext cx="58104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0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Jana Průšová</cp:lastModifiedBy>
  <dcterms:modified xsi:type="dcterms:W3CDTF">2020-09-22T07:26:34Z</dcterms:modified>
  <cp:revision>208</cp:revision>
  <dc:subject/>
  <dc:title>Zlomky 2 - rozšiřování a krácení</dc:title>
</cp:coreProperties>
</file>